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A972F07-4F42-4C6E-8693-D1BF3362ACB7}"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2B31811-44C8-4165-92F7-C15EA5D82455}"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3A50B1A-DF6A-46EF-AEDF-FDBC00846B8B}"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7861BA48-59C0-4509-9F03-58CCA458727A}"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21978EC-2085-471E-BD01-2524E4BBE0A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12BB276-F356-46BB-966D-DC68BA5FC7C4}"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4A3EEF-06A4-4D19-98BE-F5ED246319F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8AB25B-6FB8-4325-B4EF-A94E71345A6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0BED7242-E1D5-49E2-BF46-7D3195D56D5F}"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60FA05CD-35BB-451C-83E5-645D07FC0512}" type="datetime">
              <a:rPr b="0" lang="de-DE" sz="1000" spc="-1" strike="noStrike">
                <a:solidFill>
                  <a:srgbClr val="000000"/>
                </a:solidFill>
                <a:latin typeface="Arial Narrow"/>
              </a:rPr>
              <a:t>30.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6DBA8046-C2BD-45D9-9299-47E5057D0A08}"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