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E93B3-31AA-4D2D-928F-4E9A1BC95E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15FEC-A0E1-499B-A595-A4F594F93F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2B18E-52AD-4810-A0DD-B6F9F6A16E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CA120-D647-4852-B4B5-17488A337C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C9EF8-3CE2-4C3C-975D-484919B5B7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6C6AB-CECE-4589-97DF-E5915E872D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2440B-9E83-47E8-82E1-07403F3A14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581FA-ABA6-45BC-BBEC-F2471226CE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F54F3-64D8-4E48-A4BF-4022A07684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7BB19-A122-470D-9DDC-F3A429900C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BC430-DDC3-4C43-8F67-47A990B5AB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B95A4-BDFF-4E6C-B1F3-0582C3A4C7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36E5CF99-B49A-4CF9-8083-6077F1101F0B}" type="slidenum">
              <a:rPr b="0" lang="en-US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– Docu #CustomerName#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 Stand: #DD.MM.200?#   gedruckt am: </a:t>
            </a:r>
            <a:fld id="{78D4EA77-26C1-418A-BBFD-5EA808137128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4160" y="3141720"/>
            <a:ext cx="8172360" cy="295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4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5700"/>
            </a:b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JobPlaner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Customer Dokumentation</a:t>
            </a:r>
            <a:br>
              <a:rPr sz="38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221600" y="6273720"/>
            <a:ext cx="24858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rstellt von: 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3CFF4-EF44-40FF-882B-3693F06062F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tschrift Instal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r Installation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35000" y="1413000"/>
            <a:ext cx="9462960" cy="24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Organis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erfolgte auf folgendem Hauptverzeichnis im Netzwerk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NC: \\MyServerName\ShareNam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putername des Rechners auf dem der SQL Server Installiert wurde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ste der Standor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7707F-7425-4FAE-A133-B3F10B0D601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tschrift Setu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die für die Einstellungen des PLMJobManagers Notwendig sind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D3962-7DC3-4BC1-964C-D5D2BE9D6A1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tschrift zum Betrieb der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 Betrieb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991A2-EBE5-4027-905E-A3615C89D67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iz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AC643-847B-48BA-B3E5-3FA21908286F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09-04-13T09:09:37Z</dcterms:modified>
  <cp:revision>79</cp:revision>
  <dc:subject/>
  <dc:title>PLMJobManagerV2 Docu Custome</dc:title>
</cp:coreProperties>
</file>