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4FF1AC8-2982-4674-AB33-1554E1B7CA5A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B30C4BF-DF06-486B-8977-16309120EB6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file                27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SERVER              28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65CF0-6A57-47E0-A5F8-382BF934F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85BF-1C0F-42AC-BE79-071CCF31F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BDE2-599B-460A-AF70-54BA565454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E54E-A19C-4A2F-8B77-8186217FC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F270-6DC3-46B8-A167-C73FE58FB8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23B1-A087-449F-BDFE-883BEB1ECA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7E9C-F2FC-4F72-8C6F-676E2D116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6DE7D-345E-4531-BB3E-07C0C619D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4677-5D60-4A85-AB5D-591FC7E60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2D896-3CAC-4402-8010-C96C10A5D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4E6F-658A-4D46-96BF-2E9E9103A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E12A-F737-41EC-B298-4AB045076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6172C4C-4B65-4A06-9A0C-2F6B47EA267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YYYY#   gedruckt am: </a:t>
            </a:r>
            <a:fld id="{654F4043-88CC-4488-B4CB-12A6E3F8D96C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3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osef.Feuerstein@PLMJobManager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C2D33A2-297C-43B9-9700-03B1734E11D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6D16724-DD07-4C53-83D6-29D654AA536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51"/>
          <p:cNvSpPr/>
          <p:nvPr/>
        </p:nvSpPr>
        <p:spPr>
          <a:xfrm>
            <a:off x="285840" y="1413000"/>
            <a:ext cx="946296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\\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RACLE_SID=plm2 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AN_DATA=u:\PLM2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and Prompt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UGS_SHR_DIR%\start_apps\windows\start_nx6.bat de tceng_prompt PLM2 2005s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FB2A41C-4236-480B-A5EA-053051EFA1B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4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6D2B544-865B-4E42-82A8-0283DA7A7D3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file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73076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Liste der Parame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2680" y="1357200"/>
          <a:ext cx="9504360" cy="3165480"/>
        </p:xfrm>
        <a:graphic>
          <a:graphicData uri="http://schemas.openxmlformats.org/drawingml/2006/table">
            <a:tbl>
              <a:tblPr/>
              <a:tblGrid>
                <a:gridCol w="360360"/>
                <a:gridCol w="611280"/>
                <a:gridCol w="2800440"/>
                <a:gridCol w="583920"/>
                <a:gridCol w="1081080"/>
                <a:gridCol w="503280"/>
                <a:gridCol w="1836720"/>
                <a:gridCol w="395280"/>
                <a:gridCol w="1332000"/>
              </a:tblGrid>
              <a:tr h="3751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SP/A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F 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Op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non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bei einem Single Part –y gesetzt so wird das Master nur 1xmal gespei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master/Test000185_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specification/Test000185_1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ein Assembly mit –y refiled dann wird das Master 2xmal gespeich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he Teile Histo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2961B13-DC20-4ECB-9C41-4CA9D1BC866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blauf Produktiv Umstel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rbereitung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44520" y="1484280"/>
            <a:ext cx="770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Umziehen der DB auf den neuen Server VAF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Oracle TCE DB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lume Daten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stimmung mit Baumgarner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Zeitliche einschätz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fo von J.Feuerstein: TCE/NX System sollte spätestens bis 14:00 Uhr verfügbar sein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ätzung der Refile Zeiten: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Single Parts bei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Assemblys mit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 </a:t>
            </a:r>
            <a:br>
              <a:rPr sz="1000"/>
            </a:b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ttenplatz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lattenplatz für Oracle RedoLogfiles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Plattenplatz prüfen min 10 GB frei für diesen Zeitrau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lattenplatz für Volume Daten bitte +1/3 mehr frei gegenüber dem Aktuellen Beda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en für den Produktiv Re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von zu prüfenden Baugruppen erstellen bitte eintragen in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\\MyServer\ugsshare\JobManagerV2\11-Documentation.Custom\NXRefile\NX-Refile-Partlisten.x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plante Ter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Prüfung der Ergebnisse am Testsyste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Fr. 23 + Sa 24.10</a:t>
            </a:r>
            <a:br>
              <a:rPr sz="1000"/>
            </a:b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i Änderung der Termine bitte J.Feuerstein so früh wie möglich informieren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bil: 0176-2216-1006 </a:t>
            </a:r>
            <a:r>
              <a:rPr b="0" lang="de-DE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Josef.Feuerstein@PLMJobManager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50700D6-0E0B-44B9-A207-4887D7A77E5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B5D29AC-E730-45F2-915A-3AADF8DFE55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03-11T12:23:20Z</dcterms:modified>
  <cp:revision>84</cp:revision>
  <dc:subject/>
  <dc:title>PLMJobManagerV2 Docu Custome</dc:title>
</cp:coreProperties>
</file>