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EF1FA83-7F79-461C-BDD9-067038DA3F5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0DAB997-A8AA-4167-926F-70B23235EE1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_volum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M Berechtigungen für Volumes setz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oice /C JN /N /T 30 /D N /M "Berechtigungen fuer Volumes setzen [J\N] 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%errorlevel% NEQ 1 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f:\ugsshare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exist %logdir%\volumes*.* del /q %logdir%\volumes*.* &gt;n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1.log  2&gt;&gt;%logdir%\volumes1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2.log  2&gt;&gt;%logdir%\volumes2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3.log  2&gt;&gt;%logdir%\volumes3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/i "%WERK%" EQU "F" GOTO 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e: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4.log  2&gt;&gt;%logdir%\volumes4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5.log  2&gt;&gt;%logdir%\volumes5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6.log  2&gt;&gt;%logdir%\volumes6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indstr errors %logdir%\volumes*.lo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ype %logdir%\volumes*.e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u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0860-811B-4009-8E46-7CED11B41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5BD3-7B90-4740-BA52-98D4A4F3AE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3788D-D97E-46F1-9E59-ABC8CC227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4837-E326-471D-AB4F-0BA92449B3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4D619-3E9C-4EC8-A3B0-7D4239C094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F9608-C0C1-46AB-95DE-0A8F3785C2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ADE81-8173-4B3D-828C-1CCC8971C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9FF66-60A7-4A1F-9FC9-8BF8DEF910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10C5B-F2F3-4D62-A615-192C9E9B3D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EE022-5A7F-4B4E-ADEF-F0C750DC09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D9F0-008B-4894-B820-61577443C9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1555-006D-4552-AEDB-6A952D0FF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AE3A706-1B9A-4908-A636-2B6B86ED65A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PLMJobMangerV2 – Tce Mitschriften Dokumentation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5.05.2011   gedruckt am: </a:t>
            </a:r>
            <a:fld id="{C7E01E3E-CCA4-42C2-8C85-116B01BDE806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1" descr="JF-Vorlagen-Briefkopf-JobManager_V00"/>
          <p:cNvPicPr/>
          <p:nvPr/>
        </p:nvPicPr>
        <p:blipFill>
          <a:blip r:embed="rId9"/>
          <a:stretch/>
        </p:blipFill>
        <p:spPr>
          <a:xfrm>
            <a:off x="5778360" y="63360"/>
            <a:ext cx="39880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8585A59-78F7-4A91-882D-C93CED7BB87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PlmJobManagerV2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TCE -Doku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631960" y="1006560"/>
            <a:ext cx="38214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E840326-5F49-44C9-A981-21B23F8A912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iter Info Liste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0840" y="1268280"/>
          <a:ext cx="9647280" cy="2987640"/>
        </p:xfrm>
        <a:graphic>
          <a:graphicData uri="http://schemas.openxmlformats.org/drawingml/2006/table">
            <a:tbl>
              <a:tblPr/>
              <a:tblGrid>
                <a:gridCol w="301680"/>
                <a:gridCol w="1368360"/>
                <a:gridCol w="3203640"/>
                <a:gridCol w="47736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reibun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ispie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61351AA-0D4E-4E0E-AC3A-8E02E89B4E8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AEBEEF3-AAA5-47ED-AB75-FF834A4314B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3"/>
          <p:cNvSpPr/>
          <p:nvPr/>
        </p:nvSpPr>
        <p:spPr>
          <a:xfrm>
            <a:off x="290520" y="1260360"/>
            <a:ext cx="9207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chtigungen auf den Volum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 Versionen su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n: 9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ypass Regel anpassen (neu 5.5.2011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C1BCD83-CD78-4509-8B4F-2C1B9ACC7EB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307800" y="1295280"/>
            <a:ext cx="89665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eckIn nicht möglich obwohl DBA und Bypass Rechte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R 1722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hilfe: Edit ACL -&gt; Has Bypass(true) Reg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Jopp\AppData\Local\Microsoft\Windows\Temporary Internet Files\Content.Outlook\KDPQL63X\CICO_002.jpg"/>
          <p:cNvPicPr/>
          <p:nvPr/>
        </p:nvPicPr>
        <p:blipFill>
          <a:blip r:embed="rId2"/>
          <a:srcRect l="0" t="0" r="0" b="50004"/>
          <a:stretch/>
        </p:blipFill>
        <p:spPr>
          <a:xfrm>
            <a:off x="380880" y="2090880"/>
            <a:ext cx="9072720" cy="3066840"/>
          </a:xfrm>
          <a:prstGeom prst="rect">
            <a:avLst/>
          </a:prstGeom>
          <a:ln w="0">
            <a:noFill/>
          </a:ln>
        </p:spPr>
      </p:pic>
      <p:sp>
        <p:nvSpPr>
          <p:cNvPr id="63" name="Ellipse 5"/>
          <p:cNvSpPr/>
          <p:nvPr/>
        </p:nvSpPr>
        <p:spPr>
          <a:xfrm>
            <a:off x="8623440" y="3564000"/>
            <a:ext cx="830160" cy="85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Gerade Verbindung mit Pfeil 8"/>
          <p:cNvCxnSpPr/>
          <p:nvPr/>
        </p:nvCxnSpPr>
        <p:spPr>
          <a:xfrm>
            <a:off x="3008160" y="1988640"/>
            <a:ext cx="5509080" cy="180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E2F6083-AED0-4F1B-A3CE-431C09689C4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6332400" y="2590920"/>
            <a:ext cx="2009880" cy="3754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tus setzen oder entfer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6880" y="1487520"/>
            <a:ext cx="6351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setz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status=MyNewStatus -folder=ObjectsStatus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entfern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unrelease -status=MyNewStatus -folder=ObjectsStatusUn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673600" y="2529000"/>
            <a:ext cx="1548000" cy="306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952880" y="2023920"/>
            <a:ext cx="2268720" cy="363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415800" y="2889360"/>
            <a:ext cx="4025880" cy="3259080"/>
          </a:xfrm>
          <a:prstGeom prst="rect">
            <a:avLst/>
          </a:prstGeom>
          <a:ln w="0">
            <a:noFill/>
          </a:ln>
        </p:spPr>
      </p:pic>
      <p:sp>
        <p:nvSpPr>
          <p:cNvPr id="73" name="Oval 9"/>
          <p:cNvSpPr/>
          <p:nvPr/>
        </p:nvSpPr>
        <p:spPr>
          <a:xfrm>
            <a:off x="1136520" y="3176640"/>
            <a:ext cx="2521080" cy="13683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360520" y="3933720"/>
            <a:ext cx="90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egen eines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857160" y="3933360"/>
            <a:ext cx="279360" cy="190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3E03E2A-15CC-422B-AF39-F2002727F7C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rechtigungen auf den Volu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okumentation der erforderlichen Berechtigungen auf den Volume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2200" y="1268280"/>
            <a:ext cx="9426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alle Ordner und Files müssen dem imanFs-Dienst-User gehören (Besitz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setowner -r MyDomainName\srv_imanfs %volumesdir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ternative:  setfile.exe /REC  /Owner=MyDomainName\srv_imanfs %volumesdir%\*.*  ! Achtung Tool prüfen !! unbedingt ..\*.* angeben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lle Verzeichnisse müssen die berechtigungen: imanFs-Dienst-User RWXD  Jeder:RX aufwei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clear -usepriv -dirsonly MyDomainName\srv_imanfs:RWXD Jeder:RX %volumesdir%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auf alle Files muss der imanFs-Dienst-User:R (Read) Access ha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noprop -autoprotect -clear -usepriv -filesonly MyDomainName\srv_imanfs:R %volumesdir%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n der T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grant      --&gt; http://soci.hu/svn/WebHosting/trunk/ntsec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owner    --&gt; geht nur für 1 file !! http://www.certification-mcse.com/downloa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file.exe --&gt; http://peter.verhas.com/progs/c/nt/setfi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halten von KBA Herrn Dietmar Eberth am 19.04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12E2BEE-1923-46F2-9157-B71990F1EA5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Versionen suc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eschreibung wie am Einfachsten der Zugriff auf unterschiedliche Versionen von Partfiles zugegriffen werden kan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69720" y="1484280"/>
            <a:ext cx="504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mgebungsvariable setzen: (TCE neu star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hereReferencePOMPref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69720" y="2290680"/>
            <a:ext cx="3143520" cy="227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9720" y="2100240"/>
            <a:ext cx="410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set auswählen und Verwendungsnachwei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9840" y="148428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69840" y="2036880"/>
            <a:ext cx="254160" cy="2538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9840" y="2565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135160" y="3789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40160" y="37893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ker auswählen und Eigenschaften via R-Mau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2792520" y="4329000"/>
            <a:ext cx="1971720" cy="153360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540160" y="4184640"/>
            <a:ext cx="306360" cy="673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5815080" y="337176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4"/>
          <a:stretch/>
        </p:blipFill>
        <p:spPr>
          <a:xfrm>
            <a:off x="5942160" y="3625920"/>
            <a:ext cx="3046320" cy="2462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6248520" y="33717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m Eigenschaften Dialog Objekte selektieren Kopi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"/>
          <p:cNvPicPr/>
          <p:nvPr/>
        </p:nvPicPr>
        <p:blipFill>
          <a:blip r:embed="rId5"/>
          <a:stretch/>
        </p:blipFill>
        <p:spPr>
          <a:xfrm>
            <a:off x="8337600" y="5462640"/>
            <a:ext cx="1000080" cy="799920"/>
          </a:xfrm>
          <a:prstGeom prst="rect">
            <a:avLst/>
          </a:prstGeom>
          <a:ln w="0">
            <a:noFill/>
          </a:ln>
        </p:spPr>
      </p:pic>
      <p:sp>
        <p:nvSpPr>
          <p:cNvPr id="98" name="Oval 19"/>
          <p:cNvSpPr/>
          <p:nvPr/>
        </p:nvSpPr>
        <p:spPr>
          <a:xfrm>
            <a:off x="8337600" y="504972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8680320" y="4923000"/>
            <a:ext cx="131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ließend dies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 einen Ordner kopier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am 12.11.09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324000" y="2565360"/>
            <a:ext cx="1641240" cy="254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460FBB4-631C-4B8D-9039-D1228CE43D0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c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image001"/>
          <p:cNvPicPr/>
          <p:nvPr/>
        </p:nvPicPr>
        <p:blipFill>
          <a:blip r:embed="rId2"/>
          <a:stretch/>
        </p:blipFill>
        <p:spPr>
          <a:xfrm>
            <a:off x="3189240" y="2565360"/>
            <a:ext cx="6316560" cy="3903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7800" y="1189800"/>
            <a:ext cx="3630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 purgen wenn erforderl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fcc purgen 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call %fms_home%\bin\fccstat.exe –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der FCC limitieren mi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-Einstellung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le Einstellungen à Kommentare entfernen à Override =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703E6C8-99C4-4574-B4BC-7C7A5B27B65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w to bypass Teamcenter site preferences, e.g. for loading customization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7800" y="1375200"/>
            <a:ext cx="748368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.      Set the following environment vari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RIDE_FROM_FILE=TR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LAY_FILE=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.      Create the preference overlay file 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x. Which overrides the customizations to loa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 name="General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_description&gt;Teamcenter Preferences&lt;/category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 name="TC_customization_libraries" type="String" array="true" disabled="false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_description&gt;Test&lt;/preference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ontext name="Teamcenter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value&gt;&lt;/valu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ontex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ategory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te that you can add whatever site preference in this file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he format etc. can be taken from Teamcenter by exporting preferenc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ither using the Rich Client (Edit à Options…) or by using the preferences_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ommand line ut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rom: Viersen, Jouke &lt;jouke.viersen@siemens.co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e: 9 Nov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A99706E-9F2C-4741-B03C-F804EDF3CB8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 Standard Template import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New 31.10.201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5800" y="1652040"/>
            <a:ext cx="925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TC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%UGII_BASE_DIR%\templates\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 tcin_template_setup  ohne angabe von „.bat“ anst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„D:\ugs\nx75\UGII\templates\sample“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1-10-31T12:50:48Z</dcterms:modified>
  <cp:revision>101</cp:revision>
  <dc:subject/>
  <dc:title>PLMJobManagerV2</dc:title>
</cp:coreProperties>
</file>