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00520" y="-36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-360" y="928332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00520" y="928332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3219B66C-7440-446C-AC66-266D6CCA3236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SpOwn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SpRepl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2_ApOwn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ApRepl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3_Ap_McTryR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liennummernplatzhalter 3"/>
          <p:cNvSpPr/>
          <p:nvPr/>
        </p:nvSpPr>
        <p:spPr>
          <a:xfrm>
            <a:off x="3800520" y="9283680"/>
            <a:ext cx="2908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FEAE8D47-C910-4185-B39E-A04CAAA96D42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E2C76-087F-4B64-8D81-C0D4009517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3149C-D20E-40E7-B95E-5EFA4057EE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94D4B-241D-402A-B558-E58097B6EC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1671B-7C3C-4321-9A86-D676AEB6A9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FD4A0-4FF2-4C45-B9A2-2BFC86B333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7EF41-C2DF-4578-B2AD-068BF80E65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922E4-2791-4712-8460-526DE47840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4BC4A-402C-4CA6-B358-06E5FCE084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5000" y="396720"/>
            <a:ext cx="863424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E5065-6E50-4317-976D-A73B526620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E7DBE-1A25-48A7-8051-9C838D0C69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D9985-D57A-4012-BD4C-B382E5DDF7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32905-903F-4893-8DDE-56B393BBAD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3240" y="1440"/>
            <a:ext cx="9889920" cy="86868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C45E2832-3018-4711-850C-EAA243C568E4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135000" y="6593040"/>
            <a:ext cx="863424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©J.Fes   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_etup_Nx75.ppt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J.Fes. Stand: 18.08.2010      gedruckt am: </a:t>
            </a:r>
            <a:fld id="{E13B7735-B987-4B9C-8ABB-65A0A1A8FDF9}" type="datetime">
              <a:rPr b="0" lang="de-DE" sz="9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9772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64" descr="JF-Vorlagen-Briefkopf-JobManager_V00"/>
          <p:cNvPicPr/>
          <p:nvPr/>
        </p:nvPicPr>
        <p:blipFill>
          <a:blip r:embed="rId9"/>
          <a:stretch/>
        </p:blipFill>
        <p:spPr>
          <a:xfrm>
            <a:off x="5200560" y="20520"/>
            <a:ext cx="46688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liennummernplatzhalter 2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5006BD52-6AB0-4B7F-B533-25DC71923EA6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453360" y="5877000"/>
            <a:ext cx="2328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5240" y="3897000"/>
            <a:ext cx="7657920" cy="2197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5700" spc="-1" strike="noStrike">
                <a:solidFill>
                  <a:srgbClr val="000000"/>
                </a:solidFill>
                <a:latin typeface="Arial"/>
              </a:rPr>
              <a:t>PLMJobManagerV2</a:t>
            </a:r>
            <a:r>
              <a:rPr b="1" lang="de-DE" sz="57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700"/>
            </a:br>
            <a:r>
              <a:rPr b="1" lang="de-DE" sz="3800" spc="-1" strike="noStrike">
                <a:solidFill>
                  <a:srgbClr val="000000"/>
                </a:solidFill>
                <a:latin typeface="Arial"/>
              </a:rPr>
              <a:t>RefileNx75 – Sett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6453360" y="5877000"/>
            <a:ext cx="2328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8" descr="MyApplLogo"/>
          <p:cNvPicPr/>
          <p:nvPr/>
        </p:nvPicPr>
        <p:blipFill>
          <a:blip r:embed="rId1"/>
          <a:stretch/>
        </p:blipFill>
        <p:spPr>
          <a:xfrm>
            <a:off x="2720880" y="1197000"/>
            <a:ext cx="4176720" cy="28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NX7.5 Setting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Settings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2"/>
          <a:stretch/>
        </p:blipFill>
        <p:spPr>
          <a:xfrm>
            <a:off x="344520" y="1227240"/>
            <a:ext cx="9253440" cy="2089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"/>
          <p:cNvPicPr/>
          <p:nvPr/>
        </p:nvPicPr>
        <p:blipFill>
          <a:blip r:embed="rId3"/>
          <a:stretch/>
        </p:blipFill>
        <p:spPr>
          <a:xfrm>
            <a:off x="358920" y="3429000"/>
            <a:ext cx="9165960" cy="302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0-10-29T18:50:33Z</dcterms:modified>
  <cp:revision>175</cp:revision>
  <dc:subject/>
  <dc:title>Refile Manager V1.0</dc:title>
</cp:coreProperties>
</file>