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3D8E63D-F11B-4D10-96FC-8194607DCF5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DBFA70A-9C05-41E7-B327-37FEF30CA4A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file                27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SERVER              28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19F9-031E-4371-96E8-4171AD594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731D-50F6-42F1-944F-82AEF3769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0F1C-BA0D-467B-A5EB-CF683BFD9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8752-76D1-44F7-A3B7-DD16B5638F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9495-231D-4864-B858-782AF25B9C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62A0-4A59-4E21-A940-0C80839AD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237CA-BA9F-4546-BD2B-32C8B974C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5917-747B-4C93-85D0-0934D09AD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61BD-1A24-44BD-972C-CADB3E2DA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A515-14EB-45EE-AF84-2F9C79DE8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F012-9815-426F-879F-449A6F58B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72DB-EC2A-4BEE-8C1E-9B778C6A2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943B043-A1E4-41F7-AAB8-629FEA26843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YYYY#   gedruckt am: </a:t>
            </a:r>
            <a:fld id="{07F69DB1-FB9C-4246-865E-FDC047CF9409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3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osef.Feuerstein@PLMJobManager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005C3F5-5358-430E-9131-9D891410416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646258E-515B-44A1-97ED-B697D00C012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251"/>
          <p:cNvSpPr/>
          <p:nvPr/>
        </p:nvSpPr>
        <p:spPr>
          <a:xfrm>
            <a:off x="285840" y="1413000"/>
            <a:ext cx="946296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\\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RACLE_SID=plm2 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MAN_DATA=u:\PLM2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mand Prompt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%UGS_SHR_DIR%\start_apps\windows\start_nx6.bat de tceng_prompt PLM2 2005sr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D675AF1-A9B8-42B7-93A6-4399C5DF2B1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liennummernplatzhalter 4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283F682-DDE8-4278-A9EC-4585F330A24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file Para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73076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Liste der Paramet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2680" y="1357200"/>
          <a:ext cx="9504360" cy="3165480"/>
        </p:xfrm>
        <a:graphic>
          <a:graphicData uri="http://schemas.openxmlformats.org/drawingml/2006/table">
            <a:tbl>
              <a:tblPr/>
              <a:tblGrid>
                <a:gridCol w="360360"/>
                <a:gridCol w="611280"/>
                <a:gridCol w="2800440"/>
                <a:gridCol w="583920"/>
                <a:gridCol w="1081080"/>
                <a:gridCol w="503280"/>
                <a:gridCol w="1836720"/>
                <a:gridCol w="395280"/>
                <a:gridCol w="1332000"/>
              </a:tblGrid>
              <a:tr h="3751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 (SP/A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F Paramet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Op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non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i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y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bei einem Single Part –y gesetzt so wird das Master nur 1xmal gespei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master/Test000185_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specification/Test000185_1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ein Assembly mit –y refiled dann wird das Master 2xmal gespeich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ehe Teile Histo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7EDBE9C-FA87-4AB1-9377-2A157B57710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blauf Produktiv Umstell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rbereitung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44520" y="1484280"/>
            <a:ext cx="77040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Umziehen der DB auf den neuen Server VAF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Oracle TCE DB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Volume Daten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Abstimmung mit Baumgarner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Zeitliche einschätz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fo von J.Feuerstein: TCE/NX System sollte spätestens bis 14:00 Uhr verfügbar sein</a:t>
            </a: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schätzung der Refile Zeiten: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Single Parts bei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Assemblys mit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.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 </a:t>
            </a:r>
            <a:br>
              <a:rPr sz="1000"/>
            </a:b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ttenplatz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lattenplatz für Oracle RedoLogfiles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Plattenplatz prüfen min 10 GB frei für diesen Zeitrau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Plattenplatz für Volume Daten bitte +1/3 mehr frei gegenüber dem Aktuellen Beda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en für den Produktiv Ref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von zu prüfenden Baugruppen erstellen bitte eintragen in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\\MyServer\ugsshare\JobManagerV2\11-Documentation.Custom\NXRefile\NX-Refile-Partlisten.x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plante Ter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Prüfung der Ergebnisse am Testsyste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Fr. 23 + Sa 24.10</a:t>
            </a:r>
            <a:br>
              <a:rPr sz="1000"/>
            </a:b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ei Änderung der Termine bitte J.Feuerstein so früh wie möglich informieren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obil: 0176-2216-1006 </a:t>
            </a:r>
            <a:r>
              <a:rPr b="0" lang="de-DE" sz="1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Josef.Feuerstein@PLMJobManager.com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EC77FB9-E38E-4285-990A-4940FD0D4483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AF4B2BD-DCD1-46D4-B79B-74DF9AAB78F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de-DE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03-11T12:23:20Z</dcterms:modified>
  <cp:revision>84</cp:revision>
  <dc:subject/>
  <dc:title>PLMJobManagerV2 Docu Custome</dc:title>
</cp:coreProperties>
</file>