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4"/>
          </p:nvPr>
        </p:nvSpPr>
        <p:spPr>
          <a:xfrm>
            <a:off x="3800520" y="-36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5"/>
          </p:nvPr>
        </p:nvSpPr>
        <p:spPr>
          <a:xfrm>
            <a:off x="-360" y="928332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6"/>
          </p:nvPr>
        </p:nvSpPr>
        <p:spPr>
          <a:xfrm>
            <a:off x="3800520" y="928332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96C36452-591D-4143-8376-018D8951ADA5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Klaus Schol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oliennummernplatzhalter 3"/>
          <p:cNvSpPr/>
          <p:nvPr/>
        </p:nvSpPr>
        <p:spPr>
          <a:xfrm>
            <a:off x="3800520" y="9283680"/>
            <a:ext cx="2908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61930E43-0B7D-4700-8133-BACDF341C9A1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D160F-66E9-4435-A98F-DCE1B8E94D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A9B31-2096-4024-8E63-B40F73E2A2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965FF-8C78-4ED6-AD35-07957DDC10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104F7-4534-4358-8E4F-B649292F6F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DD989-A49D-4095-9206-7551B2CAF88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B1E69-E209-4E66-978B-D5F5E0DA726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FA158-436B-4430-84DF-8666A97E1DE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B2B14-905E-43AF-AC6C-C245AC51D73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E5D33-15C5-4D98-B822-ECCBE53ACAB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28160" y="365040"/>
            <a:ext cx="969660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5A87D-3540-4F2E-8C7C-52CC206F80C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DF789-563A-402E-A2D8-4AC5580EC6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14239-3252-4012-8514-2D12DE810B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73505-9CCD-43DF-BFDA-CED2301190F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C2FB8-2E79-41BD-BBBA-CD1DB7C952A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B5BC9-9437-462C-80CC-8DF03C399A2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330E9-7D80-4751-806F-C72FFF332C8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2E043-6A42-4ADF-88F7-418E1DE330F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9BA9-2945-4E95-96CF-9DD4EB430FE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0427-4130-4C19-ADD9-96E443FDD49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06AC-E157-4B59-A77B-C4D422DF605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EEEE-9E80-456A-84BC-C9E77816B02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E95B-FFDA-4EAC-A9FC-E1298A2918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F7074-871F-425C-8094-A5B1FA54A21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28160" y="365040"/>
            <a:ext cx="969660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75CA-13F4-409B-B357-CA40682BAFE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1A46-296A-45CA-A959-EBCE0EC5EBA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5939-D587-4ABD-B430-3DC7491C517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7103-DFCF-4B0D-B83F-E83B1627BA2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5627-C9E1-4074-9B7B-2A230600B0E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9C56-55C5-4B1D-817E-9C64E646539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D3FB-8A2E-46D1-ADDC-EC9BB61DA2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C01B0-7F5D-4CA6-ABEC-23C0F6B3F7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876AA-CC1E-4F96-B544-D5BB3D70A1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8160" y="365040"/>
            <a:ext cx="969660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79C9A-54D7-4265-9C2E-C26B5E7D43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CFF2F-F6CD-4110-B1C0-84E5530856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514AB-116C-4DBE-B3FF-D255565DB4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B9000-0621-46BD-A663-A3C20B8112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Slite </a:t>
            </a:r>
            <a:fld id="{EC3C6FA6-ADE3-4E77-B640-8E15B78A9E4C}" type="slidenum">
              <a:rPr b="0" lang="de-DE" sz="24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– 91-PLMJobManagerV2_PLMDataCheck_Customer.pp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. Last Change:#Date#   printed </a:t>
            </a:r>
            <a:fld id="{C9BA9BB8-FE9B-482F-BD8F-40D9034D425B}" type="datetime">
              <a:rPr b="0" lang="en-GB" sz="9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Grafik 2" descr=""/>
          <p:cNvPicPr/>
          <p:nvPr/>
        </p:nvPicPr>
        <p:blipFill>
          <a:blip r:embed="rId9"/>
          <a:stretch/>
        </p:blipFill>
        <p:spPr>
          <a:xfrm>
            <a:off x="6357960" y="52560"/>
            <a:ext cx="3467160" cy="38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9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– 91-PLMJobManagerV2_PLMDataCheck_Customer.pp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. Last Change:#Date#   printed </a:t>
            </a:r>
            <a:fld id="{555906A7-8120-402B-B007-BCB99EA351D2}" type="datetime">
              <a:rPr b="0" lang="en-GB" sz="9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Grafik 2" descr=""/>
          <p:cNvPicPr/>
          <p:nvPr/>
        </p:nvPicPr>
        <p:blipFill>
          <a:blip r:embed="rId2"/>
          <a:stretch/>
        </p:blipFill>
        <p:spPr>
          <a:xfrm>
            <a:off x="6357960" y="52560"/>
            <a:ext cx="3467160" cy="388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9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985EAD1D-9E11-40E7-BE80-BB0194EDF6BA}" type="slidenum">
              <a:rPr b="0" lang="de-DE" sz="24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9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– 91-PLMJobManagerV2_PLMDataCheck_Customer.pp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. Last Change:#Date#   printed </a:t>
            </a:r>
            <a:fld id="{42B25B4D-E80C-442E-81AB-74E96E47BBB5}" type="datetime">
              <a:rPr b="0" lang="en-GB" sz="9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Grafik 2" descr=""/>
          <p:cNvPicPr/>
          <p:nvPr/>
        </p:nvPicPr>
        <p:blipFill>
          <a:blip r:embed="rId2"/>
          <a:stretch/>
        </p:blipFill>
        <p:spPr>
          <a:xfrm>
            <a:off x="6357960" y="52560"/>
            <a:ext cx="3467160" cy="3888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9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3"/>
          </p:nvPr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4B824C5C-23E0-4356-806E-FB8BE57A0CA6}" type="slidenum">
              <a:rPr b="0" lang="de-DE" sz="24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liennummernplatzhalter 2"/>
          <p:cNvSpPr/>
          <p:nvPr/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3D789D33-A67A-4C2D-B583-B681755BAC24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44160" y="3141720"/>
            <a:ext cx="9072360" cy="2627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6200" spc="-1" strike="noStrike">
                <a:solidFill>
                  <a:srgbClr val="000000"/>
                </a:solidFill>
                <a:latin typeface="Arial"/>
              </a:rPr>
              <a:t>PLMJobManagerV2</a:t>
            </a:r>
            <a:br>
              <a:rPr sz="6200"/>
            </a:br>
            <a:r>
              <a:rPr b="1" lang="de-DE" sz="4200" spc="-1" strike="noStrike">
                <a:solidFill>
                  <a:srgbClr val="000000"/>
                </a:solidFill>
                <a:latin typeface="Arial"/>
              </a:rPr>
              <a:t>PLM Data Check Dokumentation</a:t>
            </a:r>
            <a:br>
              <a:rPr sz="4200"/>
            </a:br>
            <a:r>
              <a:rPr b="1" lang="de-DE" sz="4200" spc="-1" strike="noStrike">
                <a:solidFill>
                  <a:srgbClr val="000000"/>
                </a:solidFill>
                <a:latin typeface="Arial"/>
              </a:rPr>
              <a:t>#CustomerName#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MyApplLogo"/>
          <p:cNvPicPr/>
          <p:nvPr/>
        </p:nvPicPr>
        <p:blipFill>
          <a:blip r:embed="rId1"/>
          <a:stretch/>
        </p:blipFill>
        <p:spPr>
          <a:xfrm>
            <a:off x="3003480" y="1006560"/>
            <a:ext cx="3348000" cy="21351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0"/>
          <p:cNvSpPr/>
          <p:nvPr/>
        </p:nvSpPr>
        <p:spPr>
          <a:xfrm>
            <a:off x="7292880" y="5950080"/>
            <a:ext cx="251316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reated by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: #Name#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reation Date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: #Date#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liennummernplatzhalter 3"/>
          <p:cNvSpPr/>
          <p:nvPr/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F6058E06-86F0-4D57-980B-52DFB765D337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Check #Item# #Rev# #Date#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#Date# #Description#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feld 4"/>
          <p:cNvSpPr/>
          <p:nvPr/>
        </p:nvSpPr>
        <p:spPr>
          <a:xfrm>
            <a:off x="236520" y="1252440"/>
            <a:ext cx="941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tart add your Doc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feld 1"/>
          <p:cNvSpPr/>
          <p:nvPr/>
        </p:nvSpPr>
        <p:spPr>
          <a:xfrm rot="20913600">
            <a:off x="1430280" y="2395440"/>
            <a:ext cx="67611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lat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py this Slide first and ad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r Documentation into copied sl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2-04-18T21:49:09Z</dcterms:modified>
  <cp:revision>103</cp:revision>
  <dc:subject/>
  <dc:title>PLMJobManagerV2 Docu Custome</dc:title>
</cp:coreProperties>
</file>