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7929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21840" y="410760"/>
            <a:ext cx="618516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287a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9440" y="890640"/>
            <a:ext cx="742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87480" y="6640560"/>
            <a:ext cx="784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tand vom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4.04.2007  </a:t>
            </a: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eite: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fld id="{A0D35008-E435-4787-9392-E2222AC9ADB7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2160" y="6611760"/>
            <a:ext cx="545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287a"/>
                </a:solidFill>
                <a:latin typeface="Symbol"/>
                <a:ea typeface="Symbol"/>
              </a:rPr>
              <a:t></a:t>
            </a:r>
            <a:r>
              <a:rPr b="1" lang="en-US" sz="1000" spc="-1" strike="noStrike">
                <a:solidFill>
                  <a:srgbClr val="1d287a"/>
                </a:solidFill>
                <a:latin typeface="Arial"/>
              </a:rPr>
              <a:t>J.F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9160" y="423720"/>
            <a:ext cx="10522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obMg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0480" y="1138320"/>
            <a:ext cx="9688320" cy="537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00200" y="6642000"/>
            <a:ext cx="4429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okument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TFile_Erzeugung_Mitschrift_JFES.p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7360" y="0"/>
            <a:ext cx="495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jekt: JobManager / JT-File erzeugu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T File erzeugung 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4520" y="2185920"/>
            <a:ext cx="793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schriften Notizen zur Erzeugung von JT-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 dem Job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22480" y="444600"/>
            <a:ext cx="6478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Dokumentation: JT File Erzeugung unter NX und TC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8840" y="1601640"/>
            <a:ext cx="311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ie Batch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3440" y="2016000"/>
            <a:ext cx="4800600" cy="248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76760" y="1509840"/>
            <a:ext cx="2000520" cy="39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Übersicht über die Programm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04880" y="1809720"/>
          <a:ext cx="8520120" cy="2406600"/>
        </p:xfrm>
        <a:graphic>
          <a:graphicData uri="http://schemas.openxmlformats.org/drawingml/2006/table">
            <a:tbl>
              <a:tblPr/>
              <a:tblGrid>
                <a:gridCol w="2766960"/>
                <a:gridCol w="3137040"/>
                <a:gridCol w="2616120"/>
              </a:tblGrid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UGII_BASE_DIR%\PVTR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Verzeichn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jt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s Programm bis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 V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nctojt.b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ft .\Ugtojt.exe au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sp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pv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es Programm ab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16 und TCE Visuali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4960" y="3957480"/>
            <a:ext cx="4800600" cy="248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207200" y="4721400"/>
            <a:ext cx="187812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Mitschrift Peter Schwit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3 geteilter JOB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Einzelteile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als Monol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22480" y="188640"/>
            <a:ext cx="647856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istorie dieser Dokumentation</a:t>
            </a:r>
            <a:br>
              <a:rPr sz="1200"/>
            </a:br>
            <a:endParaRPr b="1" lang="en-US" sz="12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6080" y="1197000"/>
            <a:ext cx="85294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Nr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atum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er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as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26.08.2006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JF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rstell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13:35:21Z</dcterms:created>
  <dc:creator>JFES (Josef Feuerstein)</dc:creator>
  <dc:description/>
  <dc:language>en-US</dc:language>
  <cp:lastModifiedBy>Josef Feuerstein</cp:lastModifiedBy>
  <cp:lastPrinted>2000-09-28T14:08:21Z</cp:lastPrinted>
  <dcterms:modified xsi:type="dcterms:W3CDTF">2008-11-17T18:10:02Z</dcterms:modified>
  <cp:revision>407</cp:revision>
  <dc:subject/>
  <dc:title>Dokumentation: JT File Erzeugung unter NX und T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#Betreff#">
    <vt:lpwstr>#Betreff#</vt:lpwstr>
  </property>
  <property fmtid="{D5CDD505-2E9C-101B-9397-08002B2CF9AE}" pid="3" name="#Datum#">
    <vt:lpwstr>#Datum#</vt:lpwstr>
  </property>
  <property fmtid="{D5CDD505-2E9C-101B-9397-08002B2CF9AE}" pid="4" name="#Doc_NE#">
    <vt:lpwstr>#Doc_NE#</vt:lpwstr>
  </property>
  <property fmtid="{D5CDD505-2E9C-101B-9397-08002B2CF9AE}" pid="5" name="#PrjNr#">
    <vt:lpwstr>#PrjNr#</vt:lpwstr>
  </property>
  <property fmtid="{D5CDD505-2E9C-101B-9397-08002B2CF9AE}" pid="6" name="#PrjTitel#">
    <vt:lpwstr>#PrjTitel#</vt:lpwstr>
  </property>
  <property fmtid="{D5CDD505-2E9C-101B-9397-08002B2CF9AE}" pid="7" name="#ma_namenskuerzel#">
    <vt:lpwstr>#ma_namenskuerzel#</vt:lpwstr>
  </property>
  <property fmtid="{D5CDD505-2E9C-101B-9397-08002B2CF9AE}" pid="8" name="SpReplaceAllVariables">
    <vt:bool>0</vt:bool>
  </property>
</Properties>
</file>