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353CBCC-DDA5-4A1C-BBFE-6A33BDC7B148}"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A6A69D2C-90BC-4884-81AD-BA17CDC0D070}"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2879A160-DDA6-41E1-9FD0-9D2BC925363B}" type="datetime">
              <a:rPr b="0" lang="de-DE" sz="1000" spc="-1" strike="noStrike">
                <a:solidFill>
                  <a:srgbClr val="000000"/>
                </a:solidFill>
                <a:latin typeface="Arial Narrow"/>
              </a:rPr>
              <a:t>30.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