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DF3546-FDD5-4C91-9C20-F45B5ABF7F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77F1D-5D9E-47E5-A7B1-0E426801B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B19FAE10-E878-4422-93AD-C4DEA2AC7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B0A2A0C6-9FB1-47AD-B220-279A61BFB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FCBAB9DB-7B76-4BA3-9617-CEEA1757AC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885B05ED-ECDF-4039-A03C-AC2CB00A1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6A03C6FD-5D4B-4C01-98D4-ADFB8833D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E09954B6-8FD6-42E6-8713-BD77C4CA6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B2636BDA-1BF6-4356-B163-70943CF3D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27BE68F8-1625-4D28-A642-E37F69866C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6D62F16-3110-47A6-8A4B-544DF3E1E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6E2D2FFD-1558-4900-A1E2-B165D8AC2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194C792-D88B-4826-8E19-42F712184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1787EA98-667E-4069-8187-8FEB720B4738}"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4810A37B-9E8D-4394-9125-87503E4371BD}" type="datetime">
              <a:rPr b="0" lang="de-DE" sz="900" spc="-1" strike="noStrike">
                <a:solidFill>
                  <a:srgbClr val="000000"/>
                </a:solidFill>
                <a:latin typeface="Arial"/>
              </a:rPr>
              <a:t>30.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21DC6D46-3FA2-4795-AEE0-2C4906366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AC5DC-DDCB-4E61-81F3-33EF72C001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D208A2-55BB-4DB4-BB80-AB3441FDFA50}"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A510D16-E8F2-42D5-A2D5-7B95FE10C76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78855-03D6-4ABF-B1B3-36F0C9355D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F4E76-5866-43FF-A594-C067D1E3AD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6AD115DB-6282-41A1-A3C4-18CE540C82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348DC15A-71D0-4837-A655-373B9D0AC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046610C-EB9E-48AC-A0E7-2E176B0FC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6C29-EB86-4F28-AE33-7253F5690F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99B4EE6-E7B0-44A8-8420-EC24D1E773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