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4AD7377-472D-42EE-A522-C4D2C8839B3E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00037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Rf:OK][Rf.NX.Syslog:LoadUp:OK,LoadDisp:OK,Save:OK,SecEnd:OK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F05C6E9-83C8-439B-B297-1F3B939769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00037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Rf:OK][Rf.NX.Syslog:LoadUp:OK,LoadDisp:OK,Save:OK,SecEnd:OK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Rf:OK][Rf.MCS:OK:  15n][Rf.NX.Syslog:LoadUp:OK,LoadDisp:OK,Save:NO,SecEnd:OK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6BB10C2-D559-4386-8973-C54183CE52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2_A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A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3_Ap_McTryR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90AB1E4-D609-4FC6-89B9-F5F3CE34C613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9DB2D-AAE9-4D9F-83BA-07D20DD747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A1994-2085-450E-85BC-2E342F74FB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E2921-6416-4045-8A81-DB9220F357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363BD-36BA-41C7-AA1B-5F76F07737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863424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2AB64-2EC8-4F64-B88E-3D22427129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62392-70B7-4B9E-8E8A-97B3922DC9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2D32F-90F4-4DD1-9AC3-AB9BF2B956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87764-32FA-4EE6-9E8B-9223348DA7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863424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470DB-AD97-49DC-958A-ABC2ED1449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6AD51-BC8A-4DDD-AFEC-D4CAE66D8E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D0794-8267-4F9A-A59A-8C3E48AFE3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2FC01-5A61-451C-ACCD-F001FAFAC8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25CFA669-3B06-4BDD-82DE-EE863CA07357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135000" y="6593040"/>
            <a:ext cx="863424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_Setup_NX90.ppt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.Fes. Stand: 08.04.2014     Ausgabe erstellt am: </a:t>
            </a:r>
            <a:fld id="{36033BE4-9E2D-4DDD-8104-17EDDF0D6C28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9772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2" descr="V:\JobManager\ProgEntw\Ver02\08-Icons-und-Logos\LogosZurSoftware\PlmJobManagerTradeMarkLogoV2.png"/>
          <p:cNvPicPr/>
          <p:nvPr/>
        </p:nvPicPr>
        <p:blipFill>
          <a:blip r:embed="rId9"/>
          <a:stretch/>
        </p:blipFill>
        <p:spPr>
          <a:xfrm>
            <a:off x="7880400" y="81000"/>
            <a:ext cx="1851120" cy="68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135000" y="6593040"/>
            <a:ext cx="863424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_Setup_NX90.ppt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.Fes. Stand: 08.04.2014     Ausgabe erstellt am: </a:t>
            </a:r>
            <a:fld id="{1347AD1C-BF28-4278-BEC0-83C118D7DF36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34"/>
          <p:cNvSpPr/>
          <p:nvPr/>
        </p:nvSpPr>
        <p:spPr>
          <a:xfrm>
            <a:off x="0" y="659772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V:\JobManager\ProgEntw\Ver02\08-Icons-und-Logos\LogosZurSoftware\PlmJobManagerTradeMarkLogoV2.png"/>
          <p:cNvPicPr/>
          <p:nvPr/>
        </p:nvPicPr>
        <p:blipFill>
          <a:blip r:embed="rId2"/>
          <a:stretch/>
        </p:blipFill>
        <p:spPr>
          <a:xfrm>
            <a:off x="7880400" y="81000"/>
            <a:ext cx="1851120" cy="684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V:\JobManager\ProgEntw\Ver02\08-Icons-und-Logos\LogosZurSoftware\PlmJobManagerTradeMarkLogoV2.png"/>
          <p:cNvPicPr/>
          <p:nvPr/>
        </p:nvPicPr>
        <p:blipFill>
          <a:blip r:embed="rId3"/>
          <a:stretch/>
        </p:blipFill>
        <p:spPr>
          <a:xfrm>
            <a:off x="7880400" y="81000"/>
            <a:ext cx="1851120" cy="684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9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10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 fontScale="98000"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6E283E82-D482-48C1-9C1B-860C4FB5616D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5240" y="3897000"/>
            <a:ext cx="7657920" cy="2197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5700" spc="-1" strike="noStrike">
                <a:solidFill>
                  <a:srgbClr val="000000"/>
                </a:solidFill>
                <a:latin typeface="Arial"/>
              </a:rPr>
              <a:t>PLMJobManagerV2</a:t>
            </a:r>
            <a:r>
              <a:rPr b="1" lang="de-DE" sz="57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7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RefileNx90 – Sett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8" descr="MyApplLogo"/>
          <p:cNvPicPr/>
          <p:nvPr/>
        </p:nvPicPr>
        <p:blipFill>
          <a:blip r:embed="rId1"/>
          <a:stretch/>
        </p:blipFill>
        <p:spPr>
          <a:xfrm>
            <a:off x="2720880" y="1197000"/>
            <a:ext cx="417672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7680" y="409680"/>
            <a:ext cx="9391680" cy="388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file Method is enhanc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feld 9"/>
          <p:cNvSpPr/>
          <p:nvPr/>
        </p:nvSpPr>
        <p:spPr>
          <a:xfrm>
            <a:off x="189000" y="981000"/>
            <a:ext cx="9561600" cy="10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21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Following enhancement has bee done to optimize Refile Pro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-"/>
              <a:tabLst>
                <a:tab algn="l" pos="421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Nx.Syslog file is now also scanned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better overview because less need to view Nx.Sylog by H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-"/>
              <a:tabLst>
                <a:tab algn="l" pos="421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All analyses are done by JobClient via JobClientCmd Tools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Process time improved because JobClient do the analyses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less lost Job’s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-"/>
              <a:tabLst>
                <a:tab algn="l" pos="421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Jobs now Automated splittes Owing and Replica Object’s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less refile rules requi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Gerade Verbindung mit Pfeil 16"/>
          <p:cNvCxnSpPr/>
          <p:nvPr/>
        </p:nvCxnSpPr>
        <p:spPr>
          <a:xfrm flipV="1">
            <a:off x="3561840" y="3372840"/>
            <a:ext cx="1080" cy="556200"/>
          </a:xfrm>
          <a:prstGeom prst="straightConnector1">
            <a:avLst/>
          </a:prstGeom>
          <a:ln w="19080">
            <a:solidFill>
              <a:srgbClr val="e90649"/>
            </a:solidFill>
            <a:prstDash val="sysDash"/>
            <a:miter/>
            <a:tailEnd len="med" type="arrow" w="med"/>
          </a:ln>
        </p:spPr>
      </p:cxnSp>
      <p:pic>
        <p:nvPicPr>
          <p:cNvPr id="101" name="Picture 9" descr=""/>
          <p:cNvPicPr/>
          <p:nvPr/>
        </p:nvPicPr>
        <p:blipFill>
          <a:blip r:embed="rId1"/>
          <a:stretch/>
        </p:blipFill>
        <p:spPr>
          <a:xfrm>
            <a:off x="324000" y="2873520"/>
            <a:ext cx="8953200" cy="473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"/>
          <p:cNvPicPr/>
          <p:nvPr/>
        </p:nvPicPr>
        <p:blipFill>
          <a:blip r:embed="rId2"/>
          <a:stretch/>
        </p:blipFill>
        <p:spPr>
          <a:xfrm>
            <a:off x="619200" y="4181400"/>
            <a:ext cx="6751440" cy="189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3" name="Freihandform 24"/>
          <p:cNvSpPr/>
          <p:nvPr/>
        </p:nvSpPr>
        <p:spPr>
          <a:xfrm>
            <a:off x="2295360" y="3359160"/>
            <a:ext cx="2543400" cy="1303200"/>
          </a:xfrm>
          <a:custGeom>
            <a:avLst/>
            <a:gdLst/>
            <a:ahLst/>
            <a:rect l="l" t="t" r="r" b="b"/>
            <a:pathLst>
              <a:path w="2347535" h="1303020">
                <a:moveTo>
                  <a:pt x="0" y="1303020"/>
                </a:moveTo>
                <a:lnTo>
                  <a:pt x="0" y="883920"/>
                </a:lnTo>
                <a:lnTo>
                  <a:pt x="2347535" y="871269"/>
                </a:lnTo>
                <a:cubicBezTo>
                  <a:pt x="2344995" y="569009"/>
                  <a:pt x="2334260" y="302260"/>
                  <a:pt x="2331720" y="0"/>
                </a:cubicBezTo>
              </a:path>
            </a:pathLst>
          </a:custGeom>
          <a:noFill/>
          <a:ln w="19080">
            <a:solidFill>
              <a:srgbClr val="e90649"/>
            </a:solidFill>
            <a:prstDash val="sys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ihandform 25"/>
          <p:cNvSpPr/>
          <p:nvPr/>
        </p:nvSpPr>
        <p:spPr>
          <a:xfrm>
            <a:off x="2550960" y="3373560"/>
            <a:ext cx="3036960" cy="1531800"/>
          </a:xfrm>
          <a:custGeom>
            <a:avLst/>
            <a:gdLst/>
            <a:ahLst/>
            <a:rect l="l" t="t" r="r" b="b"/>
            <a:pathLst>
              <a:path w="2804160" h="1531620">
                <a:moveTo>
                  <a:pt x="0" y="1531620"/>
                </a:moveTo>
                <a:lnTo>
                  <a:pt x="297180" y="1257300"/>
                </a:lnTo>
                <a:lnTo>
                  <a:pt x="289560" y="990600"/>
                </a:lnTo>
                <a:lnTo>
                  <a:pt x="2804160" y="998220"/>
                </a:lnTo>
                <a:lnTo>
                  <a:pt x="2804160" y="0"/>
                </a:lnTo>
              </a:path>
            </a:pathLst>
          </a:custGeom>
          <a:noFill/>
          <a:ln w="19080">
            <a:solidFill>
              <a:srgbClr val="e90649"/>
            </a:solidFill>
            <a:prstDash val="sys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ihandform 26"/>
          <p:cNvSpPr/>
          <p:nvPr/>
        </p:nvSpPr>
        <p:spPr>
          <a:xfrm>
            <a:off x="2476440" y="3373560"/>
            <a:ext cx="3492720" cy="2484360"/>
          </a:xfrm>
          <a:custGeom>
            <a:avLst/>
            <a:gdLst/>
            <a:ahLst/>
            <a:rect l="l" t="t" r="r" b="b"/>
            <a:pathLst>
              <a:path w="3223260" h="2484120">
                <a:moveTo>
                  <a:pt x="0" y="2484120"/>
                </a:moveTo>
                <a:lnTo>
                  <a:pt x="1120140" y="1226820"/>
                </a:lnTo>
                <a:lnTo>
                  <a:pt x="3223260" y="1242060"/>
                </a:lnTo>
                <a:lnTo>
                  <a:pt x="3208020" y="0"/>
                </a:lnTo>
              </a:path>
            </a:pathLst>
          </a:custGeom>
          <a:noFill/>
          <a:ln w="19080">
            <a:solidFill>
              <a:srgbClr val="e90649"/>
            </a:solidFill>
            <a:prstDash val="sys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ihandform 27"/>
          <p:cNvSpPr/>
          <p:nvPr/>
        </p:nvSpPr>
        <p:spPr>
          <a:xfrm>
            <a:off x="2262240" y="3405240"/>
            <a:ext cx="4226040" cy="2604960"/>
          </a:xfrm>
          <a:custGeom>
            <a:avLst/>
            <a:gdLst/>
            <a:ahLst/>
            <a:rect l="l" t="t" r="r" b="b"/>
            <a:pathLst>
              <a:path w="3901440" h="2606040">
                <a:moveTo>
                  <a:pt x="0" y="2590800"/>
                </a:moveTo>
                <a:lnTo>
                  <a:pt x="0" y="2590800"/>
                </a:lnTo>
                <a:lnTo>
                  <a:pt x="647700" y="2606040"/>
                </a:lnTo>
                <a:lnTo>
                  <a:pt x="1699260" y="1356360"/>
                </a:lnTo>
                <a:lnTo>
                  <a:pt x="3512820" y="1341120"/>
                </a:lnTo>
                <a:lnTo>
                  <a:pt x="3566160" y="1173480"/>
                </a:lnTo>
                <a:lnTo>
                  <a:pt x="3901440" y="1181100"/>
                </a:lnTo>
                <a:lnTo>
                  <a:pt x="3870960" y="0"/>
                </a:lnTo>
              </a:path>
            </a:pathLst>
          </a:custGeom>
          <a:noFill/>
          <a:ln w="19080">
            <a:solidFill>
              <a:srgbClr val="e90649"/>
            </a:solidFill>
            <a:prstDash val="sys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uppieren 2047"/>
          <p:cNvGrpSpPr/>
          <p:nvPr/>
        </p:nvGrpSpPr>
        <p:grpSpPr>
          <a:xfrm>
            <a:off x="392040" y="3511440"/>
            <a:ext cx="3429000" cy="628920"/>
            <a:chOff x="392040" y="3511440"/>
            <a:chExt cx="3429000" cy="628920"/>
          </a:xfrm>
        </p:grpSpPr>
        <p:pic>
          <p:nvPicPr>
            <p:cNvPr id="108" name="Picture 10" descr=""/>
            <p:cNvPicPr/>
            <p:nvPr/>
          </p:nvPicPr>
          <p:blipFill>
            <a:blip r:embed="rId3"/>
            <a:stretch/>
          </p:blipFill>
          <p:spPr>
            <a:xfrm>
              <a:off x="392040" y="3711240"/>
              <a:ext cx="3429000" cy="429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09" name="Picture 13" descr=""/>
            <p:cNvPicPr/>
            <p:nvPr/>
          </p:nvPicPr>
          <p:blipFill>
            <a:blip r:embed="rId4"/>
            <a:stretch/>
          </p:blipFill>
          <p:spPr>
            <a:xfrm>
              <a:off x="392040" y="3511440"/>
              <a:ext cx="977400" cy="199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110" name="Geschweifte Klammer rechts 2062"/>
          <p:cNvSpPr/>
          <p:nvPr/>
        </p:nvSpPr>
        <p:spPr>
          <a:xfrm rot="16200000">
            <a:off x="5015520" y="1410120"/>
            <a:ext cx="654120" cy="2963880"/>
          </a:xfrm>
          <a:custGeom>
            <a:avLst/>
            <a:gdLst>
              <a:gd name="textAreaLeft" fmla="*/ 0 w 654120"/>
              <a:gd name="textAreaRight" fmla="*/ 236160 w 654120"/>
              <a:gd name="textAreaTop" fmla="*/ 120600 h 2963880"/>
              <a:gd name="textAreaBottom" fmla="*/ 2843280 h 296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08"/>
                  <a:pt x="10800" y="2815"/>
                </a:cubicBezTo>
                <a:lnTo>
                  <a:pt x="10800" y="6795"/>
                </a:lnTo>
                <a:cubicBezTo>
                  <a:pt x="10800" y="8203"/>
                  <a:pt x="16200" y="9610"/>
                  <a:pt x="21600" y="9610"/>
                </a:cubicBezTo>
                <a:cubicBezTo>
                  <a:pt x="16200" y="9610"/>
                  <a:pt x="10800" y="11018"/>
                  <a:pt x="10800" y="12425"/>
                </a:cubicBezTo>
                <a:lnTo>
                  <a:pt x="10800" y="18785"/>
                </a:lnTo>
                <a:cubicBezTo>
                  <a:pt x="10800" y="20193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e906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feld 2063"/>
          <p:cNvSpPr/>
          <p:nvPr/>
        </p:nvSpPr>
        <p:spPr>
          <a:xfrm>
            <a:off x="4375080" y="2293920"/>
            <a:ext cx="16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Section Nx.Sy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Geschweifte Klammer rechts 48"/>
          <p:cNvSpPr/>
          <p:nvPr/>
        </p:nvSpPr>
        <p:spPr>
          <a:xfrm rot="16200000">
            <a:off x="3328920" y="2687400"/>
            <a:ext cx="654120" cy="409320"/>
          </a:xfrm>
          <a:custGeom>
            <a:avLst/>
            <a:gdLst>
              <a:gd name="textAreaLeft" fmla="*/ 0 w 654120"/>
              <a:gd name="textAreaRight" fmla="*/ 236160 w 654120"/>
              <a:gd name="textAreaTop" fmla="*/ 75600 h 409320"/>
              <a:gd name="textAreaBottom" fmla="*/ 333720 h 40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374"/>
                  <a:pt x="10800" y="12748"/>
                </a:cubicBezTo>
                <a:lnTo>
                  <a:pt x="10800" y="-1324"/>
                </a:lnTo>
                <a:cubicBezTo>
                  <a:pt x="10800" y="5050"/>
                  <a:pt x="16200" y="11424"/>
                  <a:pt x="21600" y="11424"/>
                </a:cubicBezTo>
                <a:cubicBezTo>
                  <a:pt x="16200" y="11424"/>
                  <a:pt x="10800" y="17798"/>
                  <a:pt x="10800" y="24172"/>
                </a:cubicBezTo>
                <a:lnTo>
                  <a:pt x="10800" y="8852"/>
                </a:lnTo>
                <a:cubicBezTo>
                  <a:pt x="10800" y="15226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e906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feld 49"/>
          <p:cNvSpPr/>
          <p:nvPr/>
        </p:nvSpPr>
        <p:spPr>
          <a:xfrm>
            <a:off x="2886120" y="2293920"/>
            <a:ext cx="16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Section Rf.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ihandform 2066"/>
          <p:cNvSpPr/>
          <p:nvPr/>
        </p:nvSpPr>
        <p:spPr>
          <a:xfrm flipV="1">
            <a:off x="3738600" y="2095920"/>
            <a:ext cx="3324240" cy="770040"/>
          </a:xfrm>
          <a:custGeom>
            <a:avLst/>
            <a:gdLst/>
            <a:ahLst/>
            <a:rect l="l" t="t" r="r" b="b"/>
            <a:pathLst>
              <a:path w="3181350" h="769757">
                <a:moveTo>
                  <a:pt x="0" y="492125"/>
                </a:moveTo>
                <a:cubicBezTo>
                  <a:pt x="133402" y="738187"/>
                  <a:pt x="871457" y="792692"/>
                  <a:pt x="1276846" y="762000"/>
                </a:cubicBezTo>
                <a:cubicBezTo>
                  <a:pt x="1682235" y="731308"/>
                  <a:pt x="1970064" y="676275"/>
                  <a:pt x="2313818" y="574675"/>
                </a:cubicBezTo>
                <a:cubicBezTo>
                  <a:pt x="2657572" y="473075"/>
                  <a:pt x="3162770" y="412750"/>
                  <a:pt x="3181350" y="0"/>
                </a:cubicBezTo>
              </a:path>
            </a:pathLst>
          </a:custGeom>
          <a:noFill/>
          <a:ln w="12600">
            <a:solidFill>
              <a:srgbClr val="2d2db9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ihandform 2067"/>
          <p:cNvSpPr/>
          <p:nvPr/>
        </p:nvSpPr>
        <p:spPr>
          <a:xfrm>
            <a:off x="5902200" y="2178000"/>
            <a:ext cx="1727280" cy="657360"/>
          </a:xfrm>
          <a:custGeom>
            <a:avLst/>
            <a:gdLst/>
            <a:ahLst/>
            <a:rect l="l" t="t" r="r" b="b"/>
            <a:pathLst>
              <a:path w="1593850" h="656804">
                <a:moveTo>
                  <a:pt x="0" y="256754"/>
                </a:moveTo>
                <a:cubicBezTo>
                  <a:pt x="473604" y="109116"/>
                  <a:pt x="820208" y="-38521"/>
                  <a:pt x="1098550" y="9104"/>
                </a:cubicBezTo>
                <a:cubicBezTo>
                  <a:pt x="1376892" y="56729"/>
                  <a:pt x="1457325" y="89537"/>
                  <a:pt x="1593850" y="656804"/>
                </a:cubicBezTo>
              </a:path>
            </a:pathLst>
          </a:custGeom>
          <a:noFill/>
          <a:ln w="12600">
            <a:solidFill>
              <a:srgbClr val="2d2db9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3486240" y="3618000"/>
            <a:ext cx="5321160" cy="26161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7680" y="409680"/>
            <a:ext cx="9391680" cy="388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file Section confi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Gerade Verbindung mit Pfeil 16"/>
          <p:cNvCxnSpPr/>
          <p:nvPr/>
        </p:nvCxnSpPr>
        <p:spPr>
          <a:xfrm flipV="1">
            <a:off x="3739680" y="3469680"/>
            <a:ext cx="1080" cy="556200"/>
          </a:xfrm>
          <a:prstGeom prst="straightConnector1">
            <a:avLst/>
          </a:prstGeom>
          <a:ln w="28440">
            <a:solidFill>
              <a:srgbClr val="e90649"/>
            </a:solidFill>
            <a:prstDash val="dash"/>
            <a:miter/>
            <a:tailEnd len="med" type="triangle" w="med"/>
          </a:ln>
        </p:spPr>
      </p:cxnSp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501480" y="2970360"/>
            <a:ext cx="8955360" cy="473040"/>
          </a:xfrm>
          <a:prstGeom prst="rect">
            <a:avLst/>
          </a:prstGeom>
          <a:ln w="0">
            <a:noFill/>
          </a:ln>
        </p:spPr>
      </p:pic>
      <p:sp>
        <p:nvSpPr>
          <p:cNvPr id="120" name="Geschweifte Klammer rechts 2062"/>
          <p:cNvSpPr/>
          <p:nvPr/>
        </p:nvSpPr>
        <p:spPr>
          <a:xfrm rot="16200000">
            <a:off x="5194080" y="1505880"/>
            <a:ext cx="654120" cy="2965680"/>
          </a:xfrm>
          <a:custGeom>
            <a:avLst/>
            <a:gdLst>
              <a:gd name="textAreaLeft" fmla="*/ 0 w 654120"/>
              <a:gd name="textAreaRight" fmla="*/ 236160 w 654120"/>
              <a:gd name="textAreaTop" fmla="*/ 120960 h 2965680"/>
              <a:gd name="textAreaBottom" fmla="*/ 2844720 h 296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08"/>
                  <a:pt x="10800" y="2815"/>
                </a:cubicBezTo>
                <a:lnTo>
                  <a:pt x="10800" y="6795"/>
                </a:lnTo>
                <a:cubicBezTo>
                  <a:pt x="10800" y="8203"/>
                  <a:pt x="16200" y="9610"/>
                  <a:pt x="21600" y="9610"/>
                </a:cubicBezTo>
                <a:cubicBezTo>
                  <a:pt x="16200" y="9610"/>
                  <a:pt x="10800" y="11018"/>
                  <a:pt x="10800" y="12425"/>
                </a:cubicBezTo>
                <a:lnTo>
                  <a:pt x="10800" y="18785"/>
                </a:lnTo>
                <a:cubicBezTo>
                  <a:pt x="10800" y="20193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e906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feld 2063"/>
          <p:cNvSpPr/>
          <p:nvPr/>
        </p:nvSpPr>
        <p:spPr>
          <a:xfrm>
            <a:off x="4552920" y="2390760"/>
            <a:ext cx="16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Section Nx.Sy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Geschweifte Klammer rechts 48"/>
          <p:cNvSpPr/>
          <p:nvPr/>
        </p:nvSpPr>
        <p:spPr>
          <a:xfrm rot="16200000">
            <a:off x="3506760" y="2784240"/>
            <a:ext cx="654120" cy="409320"/>
          </a:xfrm>
          <a:custGeom>
            <a:avLst/>
            <a:gdLst>
              <a:gd name="textAreaLeft" fmla="*/ 0 w 654120"/>
              <a:gd name="textAreaRight" fmla="*/ 236160 w 654120"/>
              <a:gd name="textAreaTop" fmla="*/ 75600 h 409320"/>
              <a:gd name="textAreaBottom" fmla="*/ 333720 h 40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374"/>
                  <a:pt x="10800" y="12748"/>
                </a:cubicBezTo>
                <a:lnTo>
                  <a:pt x="10800" y="-1324"/>
                </a:lnTo>
                <a:cubicBezTo>
                  <a:pt x="10800" y="5050"/>
                  <a:pt x="16200" y="11424"/>
                  <a:pt x="21600" y="11424"/>
                </a:cubicBezTo>
                <a:cubicBezTo>
                  <a:pt x="16200" y="11424"/>
                  <a:pt x="10800" y="17798"/>
                  <a:pt x="10800" y="24172"/>
                </a:cubicBezTo>
                <a:lnTo>
                  <a:pt x="10800" y="8852"/>
                </a:lnTo>
                <a:cubicBezTo>
                  <a:pt x="10800" y="15226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e906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feld 49"/>
          <p:cNvSpPr/>
          <p:nvPr/>
        </p:nvSpPr>
        <p:spPr>
          <a:xfrm>
            <a:off x="3063960" y="2390760"/>
            <a:ext cx="16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Section Rf.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ihandform 2066"/>
          <p:cNvSpPr/>
          <p:nvPr/>
        </p:nvSpPr>
        <p:spPr>
          <a:xfrm flipV="1">
            <a:off x="3916440" y="2192760"/>
            <a:ext cx="3324240" cy="770040"/>
          </a:xfrm>
          <a:custGeom>
            <a:avLst/>
            <a:gdLst/>
            <a:ahLst/>
            <a:rect l="l" t="t" r="r" b="b"/>
            <a:pathLst>
              <a:path w="3181350" h="769757">
                <a:moveTo>
                  <a:pt x="0" y="492125"/>
                </a:moveTo>
                <a:cubicBezTo>
                  <a:pt x="133402" y="738187"/>
                  <a:pt x="871457" y="792692"/>
                  <a:pt x="1276846" y="762000"/>
                </a:cubicBezTo>
                <a:cubicBezTo>
                  <a:pt x="1682235" y="731308"/>
                  <a:pt x="1970064" y="676275"/>
                  <a:pt x="2313818" y="574675"/>
                </a:cubicBezTo>
                <a:cubicBezTo>
                  <a:pt x="2657572" y="473075"/>
                  <a:pt x="3162770" y="412750"/>
                  <a:pt x="3181350" y="0"/>
                </a:cubicBezTo>
              </a:path>
            </a:pathLst>
          </a:custGeom>
          <a:noFill/>
          <a:ln w="12600">
            <a:solidFill>
              <a:srgbClr val="2d2db9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ihandform 2067"/>
          <p:cNvSpPr/>
          <p:nvPr/>
        </p:nvSpPr>
        <p:spPr>
          <a:xfrm>
            <a:off x="6080040" y="2274840"/>
            <a:ext cx="1727280" cy="657360"/>
          </a:xfrm>
          <a:custGeom>
            <a:avLst/>
            <a:gdLst/>
            <a:ahLst/>
            <a:rect l="l" t="t" r="r" b="b"/>
            <a:pathLst>
              <a:path w="1593850" h="656804">
                <a:moveTo>
                  <a:pt x="0" y="256754"/>
                </a:moveTo>
                <a:cubicBezTo>
                  <a:pt x="473604" y="109116"/>
                  <a:pt x="820208" y="-38521"/>
                  <a:pt x="1098550" y="9104"/>
                </a:cubicBezTo>
                <a:cubicBezTo>
                  <a:pt x="1376892" y="56729"/>
                  <a:pt x="1457325" y="89537"/>
                  <a:pt x="1593850" y="656804"/>
                </a:cubicBezTo>
              </a:path>
            </a:pathLst>
          </a:custGeom>
          <a:noFill/>
          <a:ln w="12600">
            <a:solidFill>
              <a:srgbClr val="2d2db9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Gerade Verbindung mit Pfeil 2"/>
          <p:cNvCxnSpPr/>
          <p:nvPr/>
        </p:nvCxnSpPr>
        <p:spPr>
          <a:xfrm flipH="1">
            <a:off x="7549920" y="3129120"/>
            <a:ext cx="584640" cy="1226160"/>
          </a:xfrm>
          <a:prstGeom prst="straightConnector1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127" name="Gerade Verbindung mit Pfeil 5"/>
          <p:cNvCxnSpPr/>
          <p:nvPr/>
        </p:nvCxnSpPr>
        <p:spPr>
          <a:xfrm>
            <a:off x="4468680" y="3456000"/>
            <a:ext cx="2300760" cy="1402560"/>
          </a:xfrm>
          <a:prstGeom prst="straightConnector1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</p:cxnSp>
      <p:pic>
        <p:nvPicPr>
          <p:cNvPr id="128" name="Picture 2" descr=""/>
          <p:cNvPicPr/>
          <p:nvPr/>
        </p:nvPicPr>
        <p:blipFill>
          <a:blip r:embed="rId3"/>
          <a:stretch/>
        </p:blipFill>
        <p:spPr>
          <a:xfrm>
            <a:off x="433440" y="977760"/>
            <a:ext cx="3655800" cy="1714680"/>
          </a:xfrm>
          <a:prstGeom prst="rect">
            <a:avLst/>
          </a:prstGeom>
          <a:ln w="0">
            <a:noFill/>
          </a:ln>
        </p:spPr>
      </p:pic>
      <p:cxnSp>
        <p:nvCxnSpPr>
          <p:cNvPr id="129" name="Gerade Verbindung mit Pfeil 8"/>
          <p:cNvCxnSpPr/>
          <p:nvPr/>
        </p:nvCxnSpPr>
        <p:spPr>
          <a:xfrm>
            <a:off x="1208160" y="2530080"/>
            <a:ext cx="900720" cy="459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X8.5 Settin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Settings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344520" y="1227240"/>
            <a:ext cx="9253440" cy="2089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3"/>
          <a:stretch/>
        </p:blipFill>
        <p:spPr>
          <a:xfrm>
            <a:off x="358920" y="3429000"/>
            <a:ext cx="9165960" cy="302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5-02-17T15:21:21Z</dcterms:modified>
  <cp:revision>180</cp:revision>
  <dc:subject/>
  <dc:title>Refile Manager V1.0</dc:title>
</cp:coreProperties>
</file>