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C71853-8DF7-46CA-9D9F-2F61A97AFEC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00037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NX.Syslog:LoadUp:OK,LoadDisp:OK,Save:OK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7C6D7A-7960-447F-B4C3-BECD122B0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00037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NX.Syslog:LoadUp:OK,LoadDisp:OK,Save:OK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Rf:OK][Rf.MCS:OK:  15n][Rf.NX.Syslog:LoadUp:OK,LoadDisp:OK,Save:NO,SecEnd:OK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14A8F30-25FE-4598-BD40-34F947E2D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72BA7FF-A262-40EA-8437-B8C91CD24A2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BE76-0209-4F46-A854-B8C8C496A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1175-E60D-416D-9675-E9F9F9BBD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6ED3-1C56-4EB4-99DF-728B01657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6B7E-ED68-410C-A7C0-A68D78A4C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017A-8EA0-4586-A8AA-BE387659D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AE533-0DB1-4030-9ABB-DFF65F1F3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76C3-6932-451A-9E0F-988232D0B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F62B6-C311-4E38-9DC4-BD49EE5C0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B23B-8CB0-43E0-81D1-BA1657F6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FF61-1663-418D-8FFA-E15563160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CD13-58A0-48E8-BA32-E1E8FD7A5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E93A-E644-4507-9675-C31A73D1A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5418E52-700A-4680-8FEC-122B6D5E0D0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Setup_Nx8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8.04.2014     Ausgabe erstellt am: </a:t>
            </a:r>
            <a:fld id="{C87DA03B-38D7-4BC5-A5C1-23711AE60E7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" descr="V:\JobManager\ProgEntw\Ver02\08-Icons-und-Logos\LogosZurSoftware\PlmJobManagerTradeMarkLogoV2.png"/>
          <p:cNvPicPr/>
          <p:nvPr/>
        </p:nvPicPr>
        <p:blipFill>
          <a:blip r:embed="rId9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Setup_Nx8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8.04.2014     Ausgabe erstellt am: </a:t>
            </a:r>
            <a:fld id="{E4DFAA2E-B15C-4C90-8404-303410B1FEA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V:\JobManager\ProgEntw\Ver02\08-Icons-und-Logos\LogosZurSoftware\PlmJobManagerTradeMarkLogoV2.png"/>
          <p:cNvPicPr/>
          <p:nvPr/>
        </p:nvPicPr>
        <p:blipFill>
          <a:blip r:embed="rId2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V:\JobManager\ProgEntw\Ver02\08-Icons-und-Logos\LogosZurSoftware\PlmJobManagerTradeMarkLogoV2.png"/>
          <p:cNvPicPr/>
          <p:nvPr/>
        </p:nvPicPr>
        <p:blipFill>
          <a:blip r:embed="rId3"/>
          <a:stretch/>
        </p:blipFill>
        <p:spPr>
          <a:xfrm>
            <a:off x="7880400" y="81000"/>
            <a:ext cx="1851120" cy="684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10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9E4A084-94E1-4A36-B709-2ADE4AAADE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8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7680" y="409680"/>
            <a:ext cx="9391680" cy="388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file Method is enhan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9"/>
          <p:cNvSpPr/>
          <p:nvPr/>
        </p:nvSpPr>
        <p:spPr>
          <a:xfrm>
            <a:off x="189000" y="981000"/>
            <a:ext cx="95616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Following enhancement has bee done to optimize Refil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Nx.Syslog file is now also scanned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better overview because less need to view Nx.Sylog by H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All analyses are done by JobClient via JobClientCmd Tools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Process time improved because JobClient do the analyses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less lost Job’s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-"/>
              <a:tabLst>
                <a:tab algn="l" pos="4211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Jobs now Automated splittes Owing and Replica Object’s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less refile rules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Gerade Verbindung mit Pfeil 16"/>
          <p:cNvCxnSpPr/>
          <p:nvPr/>
        </p:nvCxnSpPr>
        <p:spPr>
          <a:xfrm flipV="1">
            <a:off x="3561840" y="3372840"/>
            <a:ext cx="1080" cy="556200"/>
          </a:xfrm>
          <a:prstGeom prst="straightConnector1">
            <a:avLst/>
          </a:prstGeom>
          <a:ln w="19080">
            <a:solidFill>
              <a:srgbClr val="e90649"/>
            </a:solidFill>
            <a:prstDash val="sysDash"/>
            <a:miter/>
            <a:tailEnd len="med" type="arrow" w="med"/>
          </a:ln>
        </p:spPr>
      </p:cxn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24000" y="2873520"/>
            <a:ext cx="8953200" cy="473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2"/>
          <a:stretch/>
        </p:blipFill>
        <p:spPr>
          <a:xfrm>
            <a:off x="619200" y="4181400"/>
            <a:ext cx="675144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Freihandform 24"/>
          <p:cNvSpPr/>
          <p:nvPr/>
        </p:nvSpPr>
        <p:spPr>
          <a:xfrm>
            <a:off x="2295360" y="3359160"/>
            <a:ext cx="2543400" cy="1303200"/>
          </a:xfrm>
          <a:custGeom>
            <a:avLst/>
            <a:gdLst/>
            <a:ahLst/>
            <a:rect l="l" t="t" r="r" b="b"/>
            <a:pathLst>
              <a:path w="2347535" h="1303020">
                <a:moveTo>
                  <a:pt x="0" y="1303020"/>
                </a:moveTo>
                <a:lnTo>
                  <a:pt x="0" y="883920"/>
                </a:lnTo>
                <a:lnTo>
                  <a:pt x="2347535" y="871269"/>
                </a:lnTo>
                <a:cubicBezTo>
                  <a:pt x="2344995" y="569009"/>
                  <a:pt x="2334260" y="302260"/>
                  <a:pt x="2331720" y="0"/>
                </a:cubicBez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ihandform 25"/>
          <p:cNvSpPr/>
          <p:nvPr/>
        </p:nvSpPr>
        <p:spPr>
          <a:xfrm>
            <a:off x="2550960" y="3373560"/>
            <a:ext cx="3036960" cy="1531800"/>
          </a:xfrm>
          <a:custGeom>
            <a:avLst/>
            <a:gdLst/>
            <a:ahLst/>
            <a:rect l="l" t="t" r="r" b="b"/>
            <a:pathLst>
              <a:path w="2804160" h="1531620">
                <a:moveTo>
                  <a:pt x="0" y="1531620"/>
                </a:moveTo>
                <a:lnTo>
                  <a:pt x="297180" y="1257300"/>
                </a:lnTo>
                <a:lnTo>
                  <a:pt x="289560" y="990600"/>
                </a:lnTo>
                <a:lnTo>
                  <a:pt x="2804160" y="998220"/>
                </a:lnTo>
                <a:lnTo>
                  <a:pt x="280416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ihandform 26"/>
          <p:cNvSpPr/>
          <p:nvPr/>
        </p:nvSpPr>
        <p:spPr>
          <a:xfrm>
            <a:off x="2476440" y="3373560"/>
            <a:ext cx="3492720" cy="2484360"/>
          </a:xfrm>
          <a:custGeom>
            <a:avLst/>
            <a:gdLst/>
            <a:ahLst/>
            <a:rect l="l" t="t" r="r" b="b"/>
            <a:pathLst>
              <a:path w="3223260" h="2484120">
                <a:moveTo>
                  <a:pt x="0" y="2484120"/>
                </a:moveTo>
                <a:lnTo>
                  <a:pt x="1120140" y="1226820"/>
                </a:lnTo>
                <a:lnTo>
                  <a:pt x="3223260" y="1242060"/>
                </a:lnTo>
                <a:lnTo>
                  <a:pt x="320802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ihandform 27"/>
          <p:cNvSpPr/>
          <p:nvPr/>
        </p:nvSpPr>
        <p:spPr>
          <a:xfrm>
            <a:off x="2262240" y="3405240"/>
            <a:ext cx="4226040" cy="2604960"/>
          </a:xfrm>
          <a:custGeom>
            <a:avLst/>
            <a:gdLst/>
            <a:ahLst/>
            <a:rect l="l" t="t" r="r" b="b"/>
            <a:pathLst>
              <a:path w="3901440" h="2606040">
                <a:moveTo>
                  <a:pt x="0" y="2590800"/>
                </a:moveTo>
                <a:lnTo>
                  <a:pt x="0" y="2590800"/>
                </a:lnTo>
                <a:lnTo>
                  <a:pt x="647700" y="2606040"/>
                </a:lnTo>
                <a:lnTo>
                  <a:pt x="1699260" y="1356360"/>
                </a:lnTo>
                <a:lnTo>
                  <a:pt x="3512820" y="1341120"/>
                </a:lnTo>
                <a:lnTo>
                  <a:pt x="3566160" y="1173480"/>
                </a:lnTo>
                <a:lnTo>
                  <a:pt x="3901440" y="1181100"/>
                </a:lnTo>
                <a:lnTo>
                  <a:pt x="3870960" y="0"/>
                </a:lnTo>
              </a:path>
            </a:pathLst>
          </a:custGeom>
          <a:noFill/>
          <a:ln w="19080">
            <a:solidFill>
              <a:srgbClr val="e90649"/>
            </a:solidFill>
            <a:prstDash val="sys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uppieren 2047"/>
          <p:cNvGrpSpPr/>
          <p:nvPr/>
        </p:nvGrpSpPr>
        <p:grpSpPr>
          <a:xfrm>
            <a:off x="392040" y="3511440"/>
            <a:ext cx="3429000" cy="628920"/>
            <a:chOff x="392040" y="3511440"/>
            <a:chExt cx="3429000" cy="628920"/>
          </a:xfrm>
        </p:grpSpPr>
        <p:pic>
          <p:nvPicPr>
            <p:cNvPr id="108" name="Picture 10" descr=""/>
            <p:cNvPicPr/>
            <p:nvPr/>
          </p:nvPicPr>
          <p:blipFill>
            <a:blip r:embed="rId3"/>
            <a:stretch/>
          </p:blipFill>
          <p:spPr>
            <a:xfrm>
              <a:off x="392040" y="3711240"/>
              <a:ext cx="3429000" cy="42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4"/>
            <a:stretch/>
          </p:blipFill>
          <p:spPr>
            <a:xfrm>
              <a:off x="392040" y="3511440"/>
              <a:ext cx="977400" cy="199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0" name="Geschweifte Klammer rechts 2062"/>
          <p:cNvSpPr/>
          <p:nvPr/>
        </p:nvSpPr>
        <p:spPr>
          <a:xfrm rot="16200000">
            <a:off x="5015520" y="1410120"/>
            <a:ext cx="654120" cy="2963880"/>
          </a:xfrm>
          <a:custGeom>
            <a:avLst/>
            <a:gdLst>
              <a:gd name="textAreaLeft" fmla="*/ 0 w 654120"/>
              <a:gd name="textAreaRight" fmla="*/ 236160 w 654120"/>
              <a:gd name="textAreaTop" fmla="*/ 120600 h 2963880"/>
              <a:gd name="textAreaBottom" fmla="*/ 2843280 h 29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8"/>
                  <a:pt x="10800" y="2815"/>
                </a:cubicBezTo>
                <a:lnTo>
                  <a:pt x="10800" y="6795"/>
                </a:lnTo>
                <a:cubicBezTo>
                  <a:pt x="10800" y="8203"/>
                  <a:pt x="16200" y="9610"/>
                  <a:pt x="21600" y="9610"/>
                </a:cubicBezTo>
                <a:cubicBezTo>
                  <a:pt x="16200" y="9610"/>
                  <a:pt x="10800" y="11018"/>
                  <a:pt x="10800" y="12425"/>
                </a:cubicBezTo>
                <a:lnTo>
                  <a:pt x="10800" y="18785"/>
                </a:lnTo>
                <a:cubicBezTo>
                  <a:pt x="10800" y="2019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2063"/>
          <p:cNvSpPr/>
          <p:nvPr/>
        </p:nvSpPr>
        <p:spPr>
          <a:xfrm>
            <a:off x="4375080" y="229392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Nx.Sy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eschweifte Klammer rechts 48"/>
          <p:cNvSpPr/>
          <p:nvPr/>
        </p:nvSpPr>
        <p:spPr>
          <a:xfrm rot="16200000">
            <a:off x="3328920" y="2687400"/>
            <a:ext cx="654120" cy="409320"/>
          </a:xfrm>
          <a:custGeom>
            <a:avLst/>
            <a:gdLst>
              <a:gd name="textAreaLeft" fmla="*/ 0 w 654120"/>
              <a:gd name="textAreaRight" fmla="*/ 236160 w 654120"/>
              <a:gd name="textAreaTop" fmla="*/ 75600 h 409320"/>
              <a:gd name="textAreaBottom" fmla="*/ 33372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4"/>
                  <a:pt x="10800" y="12748"/>
                </a:cubicBezTo>
                <a:lnTo>
                  <a:pt x="10800" y="-1324"/>
                </a:lnTo>
                <a:cubicBezTo>
                  <a:pt x="10800" y="5050"/>
                  <a:pt x="16200" y="11424"/>
                  <a:pt x="21600" y="11424"/>
                </a:cubicBezTo>
                <a:cubicBezTo>
                  <a:pt x="16200" y="11424"/>
                  <a:pt x="10800" y="17798"/>
                  <a:pt x="10800" y="24172"/>
                </a:cubicBezTo>
                <a:lnTo>
                  <a:pt x="10800" y="8852"/>
                </a:lnTo>
                <a:cubicBezTo>
                  <a:pt x="10800" y="1522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49"/>
          <p:cNvSpPr/>
          <p:nvPr/>
        </p:nvSpPr>
        <p:spPr>
          <a:xfrm>
            <a:off x="2886120" y="229392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Rf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ihandform 2066"/>
          <p:cNvSpPr/>
          <p:nvPr/>
        </p:nvSpPr>
        <p:spPr>
          <a:xfrm flipV="1">
            <a:off x="3738600" y="2095920"/>
            <a:ext cx="3324240" cy="770040"/>
          </a:xfrm>
          <a:custGeom>
            <a:avLst/>
            <a:gdLst/>
            <a:ahLst/>
            <a:rect l="l" t="t" r="r" b="b"/>
            <a:pathLst>
              <a:path w="3181350" h="769757">
                <a:moveTo>
                  <a:pt x="0" y="492125"/>
                </a:moveTo>
                <a:cubicBezTo>
                  <a:pt x="133402" y="738187"/>
                  <a:pt x="871457" y="792692"/>
                  <a:pt x="1276846" y="762000"/>
                </a:cubicBezTo>
                <a:cubicBezTo>
                  <a:pt x="1682235" y="731308"/>
                  <a:pt x="1970064" y="676275"/>
                  <a:pt x="2313818" y="574675"/>
                </a:cubicBezTo>
                <a:cubicBezTo>
                  <a:pt x="2657572" y="473075"/>
                  <a:pt x="3162770" y="412750"/>
                  <a:pt x="3181350" y="0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ihandform 2067"/>
          <p:cNvSpPr/>
          <p:nvPr/>
        </p:nvSpPr>
        <p:spPr>
          <a:xfrm>
            <a:off x="5902200" y="2178000"/>
            <a:ext cx="1727280" cy="657360"/>
          </a:xfrm>
          <a:custGeom>
            <a:avLst/>
            <a:gdLst/>
            <a:ahLst/>
            <a:rect l="l" t="t" r="r" b="b"/>
            <a:pathLst>
              <a:path w="1593850" h="656804">
                <a:moveTo>
                  <a:pt x="0" y="256754"/>
                </a:moveTo>
                <a:cubicBezTo>
                  <a:pt x="473604" y="109116"/>
                  <a:pt x="820208" y="-38521"/>
                  <a:pt x="1098550" y="9104"/>
                </a:cubicBezTo>
                <a:cubicBezTo>
                  <a:pt x="1376892" y="56729"/>
                  <a:pt x="1457325" y="89537"/>
                  <a:pt x="1593850" y="656804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486240" y="3618000"/>
            <a:ext cx="5321160" cy="2616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409680"/>
            <a:ext cx="9391680" cy="388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file Section conf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Gerade Verbindung mit Pfeil 16"/>
          <p:cNvCxnSpPr/>
          <p:nvPr/>
        </p:nvCxnSpPr>
        <p:spPr>
          <a:xfrm flipV="1">
            <a:off x="3739680" y="3469680"/>
            <a:ext cx="1080" cy="556200"/>
          </a:xfrm>
          <a:prstGeom prst="straightConnector1">
            <a:avLst/>
          </a:prstGeom>
          <a:ln w="28440">
            <a:solidFill>
              <a:srgbClr val="e90649"/>
            </a:solidFill>
            <a:prstDash val="dash"/>
            <a:miter/>
            <a:tailEnd len="med" type="triangle" w="med"/>
          </a:ln>
        </p:spPr>
      </p:cxnSp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501480" y="2970360"/>
            <a:ext cx="8955360" cy="473040"/>
          </a:xfrm>
          <a:prstGeom prst="rect">
            <a:avLst/>
          </a:prstGeom>
          <a:ln w="0">
            <a:noFill/>
          </a:ln>
        </p:spPr>
      </p:pic>
      <p:sp>
        <p:nvSpPr>
          <p:cNvPr id="120" name="Geschweifte Klammer rechts 2062"/>
          <p:cNvSpPr/>
          <p:nvPr/>
        </p:nvSpPr>
        <p:spPr>
          <a:xfrm rot="16200000">
            <a:off x="5194080" y="1505880"/>
            <a:ext cx="654120" cy="2965680"/>
          </a:xfrm>
          <a:custGeom>
            <a:avLst/>
            <a:gdLst>
              <a:gd name="textAreaLeft" fmla="*/ 0 w 654120"/>
              <a:gd name="textAreaRight" fmla="*/ 236160 w 654120"/>
              <a:gd name="textAreaTop" fmla="*/ 120960 h 2965680"/>
              <a:gd name="textAreaBottom" fmla="*/ 2844720 h 296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8"/>
                  <a:pt x="10800" y="2815"/>
                </a:cubicBezTo>
                <a:lnTo>
                  <a:pt x="10800" y="6795"/>
                </a:lnTo>
                <a:cubicBezTo>
                  <a:pt x="10800" y="8203"/>
                  <a:pt x="16200" y="9610"/>
                  <a:pt x="21600" y="9610"/>
                </a:cubicBezTo>
                <a:cubicBezTo>
                  <a:pt x="16200" y="9610"/>
                  <a:pt x="10800" y="11018"/>
                  <a:pt x="10800" y="12425"/>
                </a:cubicBezTo>
                <a:lnTo>
                  <a:pt x="10800" y="18785"/>
                </a:lnTo>
                <a:cubicBezTo>
                  <a:pt x="10800" y="20193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2063"/>
          <p:cNvSpPr/>
          <p:nvPr/>
        </p:nvSpPr>
        <p:spPr>
          <a:xfrm>
            <a:off x="4552920" y="239076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Nx.Sy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eschweifte Klammer rechts 48"/>
          <p:cNvSpPr/>
          <p:nvPr/>
        </p:nvSpPr>
        <p:spPr>
          <a:xfrm rot="16200000">
            <a:off x="3506760" y="2784240"/>
            <a:ext cx="654120" cy="409320"/>
          </a:xfrm>
          <a:custGeom>
            <a:avLst/>
            <a:gdLst>
              <a:gd name="textAreaLeft" fmla="*/ 0 w 654120"/>
              <a:gd name="textAreaRight" fmla="*/ 236160 w 654120"/>
              <a:gd name="textAreaTop" fmla="*/ 75600 h 409320"/>
              <a:gd name="textAreaBottom" fmla="*/ 333720 h 40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4"/>
                  <a:pt x="10800" y="12748"/>
                </a:cubicBezTo>
                <a:lnTo>
                  <a:pt x="10800" y="-1324"/>
                </a:lnTo>
                <a:cubicBezTo>
                  <a:pt x="10800" y="5050"/>
                  <a:pt x="16200" y="11424"/>
                  <a:pt x="21600" y="11424"/>
                </a:cubicBezTo>
                <a:cubicBezTo>
                  <a:pt x="16200" y="11424"/>
                  <a:pt x="10800" y="17798"/>
                  <a:pt x="10800" y="24172"/>
                </a:cubicBezTo>
                <a:lnTo>
                  <a:pt x="10800" y="8852"/>
                </a:lnTo>
                <a:cubicBezTo>
                  <a:pt x="10800" y="1522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e906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feld 49"/>
          <p:cNvSpPr/>
          <p:nvPr/>
        </p:nvSpPr>
        <p:spPr>
          <a:xfrm>
            <a:off x="3063960" y="2390760"/>
            <a:ext cx="16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ection Rf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ihandform 2066"/>
          <p:cNvSpPr/>
          <p:nvPr/>
        </p:nvSpPr>
        <p:spPr>
          <a:xfrm flipV="1">
            <a:off x="3916440" y="2192760"/>
            <a:ext cx="3324240" cy="770040"/>
          </a:xfrm>
          <a:custGeom>
            <a:avLst/>
            <a:gdLst/>
            <a:ahLst/>
            <a:rect l="l" t="t" r="r" b="b"/>
            <a:pathLst>
              <a:path w="3181350" h="769757">
                <a:moveTo>
                  <a:pt x="0" y="492125"/>
                </a:moveTo>
                <a:cubicBezTo>
                  <a:pt x="133402" y="738187"/>
                  <a:pt x="871457" y="792692"/>
                  <a:pt x="1276846" y="762000"/>
                </a:cubicBezTo>
                <a:cubicBezTo>
                  <a:pt x="1682235" y="731308"/>
                  <a:pt x="1970064" y="676275"/>
                  <a:pt x="2313818" y="574675"/>
                </a:cubicBezTo>
                <a:cubicBezTo>
                  <a:pt x="2657572" y="473075"/>
                  <a:pt x="3162770" y="412750"/>
                  <a:pt x="3181350" y="0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ihandform 2067"/>
          <p:cNvSpPr/>
          <p:nvPr/>
        </p:nvSpPr>
        <p:spPr>
          <a:xfrm>
            <a:off x="6080040" y="2274840"/>
            <a:ext cx="1727280" cy="657360"/>
          </a:xfrm>
          <a:custGeom>
            <a:avLst/>
            <a:gdLst/>
            <a:ahLst/>
            <a:rect l="l" t="t" r="r" b="b"/>
            <a:pathLst>
              <a:path w="1593850" h="656804">
                <a:moveTo>
                  <a:pt x="0" y="256754"/>
                </a:moveTo>
                <a:cubicBezTo>
                  <a:pt x="473604" y="109116"/>
                  <a:pt x="820208" y="-38521"/>
                  <a:pt x="1098550" y="9104"/>
                </a:cubicBezTo>
                <a:cubicBezTo>
                  <a:pt x="1376892" y="56729"/>
                  <a:pt x="1457325" y="89537"/>
                  <a:pt x="1593850" y="656804"/>
                </a:cubicBezTo>
              </a:path>
            </a:pathLst>
          </a:custGeom>
          <a:noFill/>
          <a:ln w="12600">
            <a:solidFill>
              <a:srgbClr val="2d2db9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Gerade Verbindung mit Pfeil 2"/>
          <p:cNvCxnSpPr/>
          <p:nvPr/>
        </p:nvCxnSpPr>
        <p:spPr>
          <a:xfrm flipH="1">
            <a:off x="7549920" y="3129120"/>
            <a:ext cx="584640" cy="122616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7" name="Gerade Verbindung mit Pfeil 5"/>
          <p:cNvCxnSpPr/>
          <p:nvPr/>
        </p:nvCxnSpPr>
        <p:spPr>
          <a:xfrm>
            <a:off x="4468680" y="3456000"/>
            <a:ext cx="2300760" cy="1402560"/>
          </a:xfrm>
          <a:prstGeom prst="straightConnector1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</p:cxnSp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433440" y="977760"/>
            <a:ext cx="3655800" cy="1714680"/>
          </a:xfrm>
          <a:prstGeom prst="rect">
            <a:avLst/>
          </a:prstGeom>
          <a:ln w="0">
            <a:noFill/>
          </a:ln>
        </p:spPr>
      </p:pic>
      <p:cxnSp>
        <p:nvCxnSpPr>
          <p:cNvPr id="129" name="Gerade Verbindung mit Pfeil 8"/>
          <p:cNvCxnSpPr/>
          <p:nvPr/>
        </p:nvCxnSpPr>
        <p:spPr>
          <a:xfrm>
            <a:off x="1208160" y="2530080"/>
            <a:ext cx="900720" cy="459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8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4-04-08T16:24:18Z</dcterms:modified>
  <cp:revision>179</cp:revision>
  <dc:subject/>
  <dc:title>Refile Manager V1.0</dc:title>
</cp:coreProperties>
</file>