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1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3828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5104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7353360"/>
            <a:ext cx="965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4411BB-F7DB-4BE6-B6A9-77DC1E3E8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47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40032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58608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92320" indent="-76536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09560" indent="-96984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4500" spc="-1" strike="noStrike">
                <a:solidFill>
                  <a:srgbClr val="000000"/>
                </a:solidFill>
                <a:latin typeface="Arial"/>
              </a:rPr>
              <a:t>PLM Benutzergruppe 2008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Jobmanagement TCEng/NX Umfel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3280" y="3139560"/>
            <a:ext cx="9029880" cy="17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, Siemens PL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lda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eckbrief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S La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lution Architect im Service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Bereich Digital Product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pl-Ing. (FH) Maschinen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über 10 Jahre Service tä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schinen- und Anlagenbau,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chiff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ftwareentwicklungsprojek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719840" y="1657440"/>
            <a:ext cx="20289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81520" y="6010200"/>
            <a:ext cx="2495520" cy="1038240"/>
          </a:xfrm>
          <a:prstGeom prst="ellipse">
            <a:avLst/>
          </a:prstGeom>
          <a:solidFill>
            <a:srgbClr val="68b53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chnisch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is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280" y="6076800"/>
            <a:ext cx="2495520" cy="1038240"/>
          </a:xfrm>
          <a:prstGeom prst="ellipse">
            <a:avLst/>
          </a:prstGeom>
          <a:solidFill>
            <a:srgbClr val="afb4be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ntakt zur 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63840" y="5924520"/>
            <a:ext cx="2446200" cy="30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PL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olle: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indeglied bei Projekten, im Themenumfeld: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JobManager – NXRefile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Kund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Siemens PLM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ipl.Ing. J.Feuerst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rganisator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chn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meinsames Ziel: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erte Aufgabenverteilung als Geschäftsmodell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8720" y="5915160"/>
            <a:ext cx="2451240" cy="305280"/>
          </a:xfrm>
          <a:prstGeom prst="rect">
            <a:avLst/>
          </a:prstGeom>
          <a:solidFill>
            <a:srgbClr val="68b5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pl.Ing. J.Feuer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06680" y="5326200"/>
            <a:ext cx="4889520" cy="487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jek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609200"/>
            <a:ext cx="82278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ile-Projekt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enig &amp; Bauer 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/S/H (Refile NX2 + NX4) (28 Stando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dmöller und Höl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rst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ring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uden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nt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nt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Konstanz I&amp;S Post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bi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ze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nk AG Augs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b (in Vorberei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476520" y="6029280"/>
            <a:ext cx="6239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8.000.000 Datasets mit Hilfe des PLMJobManagers ref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4443480"/>
            <a:ext cx="52959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nke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.keller@siemens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30T01:43:30Z</dcterms:created>
  <dc:creator>David Abreu</dc:creator>
  <dc:description/>
  <dc:language>en-US</dc:language>
  <cp:lastModifiedBy>Josef Feuerstein</cp:lastModifiedBy>
  <cp:lastPrinted>1999-11-04T17:34:40Z</cp:lastPrinted>
  <dcterms:modified xsi:type="dcterms:W3CDTF">2008-09-09T09:31:37Z</dcterms:modified>
  <cp:revision>4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lyPaperSize">
    <vt:bool>1</vt:bool>
  </property>
  <property fmtid="{D5CDD505-2E9C-101B-9397-08002B2CF9AE}" pid="3" name="DocID">
    <vt:lpwstr>SVO991109003mkt-2120-189</vt:lpwstr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1</vt:bool>
  </property>
  <property fmtid="{D5CDD505-2E9C-101B-9397-08002B2CF9AE}" pid="7" name="McKinsey Margins">
    <vt:bool>1</vt:bool>
  </property>
  <property fmtid="{D5CDD505-2E9C-101B-9397-08002B2CF9AE}" pid="8" name="Traditional Objects">
    <vt:bool>1</vt:bool>
  </property>
  <property fmtid="{D5CDD505-2E9C-101B-9397-08002B2CF9AE}" pid="9" name="Use 12-pt Templates">
    <vt:bool>1</vt:bool>
  </property>
  <property fmtid="{D5CDD505-2E9C-101B-9397-08002B2CF9AE}" pid="10" name="_NewReviewCycle">
    <vt:lpwstr/>
  </property>
</Properties>
</file>