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60897F4-D775-4D32-911F-2699FB817BDE}"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6CD0A4B-238E-4CE1-A341-0375ACB4B7DD}"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0E42A71-4BA7-4E02-A4CC-55E6D605BC9F}"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1EECCEDD-EF22-493A-808B-4155E6DDFD1E}"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13ACF8B-C09E-4CC0-A250-8D5812B14091}"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6A80E6F-1AD6-4F45-8FC7-DF1847B53A7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EE3A3CC-7C1E-458D-86D3-81B20FF02358}"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B1308BA-424E-4143-B8F4-E0F6479CD5DD}"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1696362A-CE27-46DF-B0BA-60F9CDB345F4}"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35846AC3-A11D-4E82-A11C-00A65080AA14}" type="datetime">
              <a:rPr b="0" lang="de-DE" sz="1000" spc="-1" strike="noStrike">
                <a:solidFill>
                  <a:srgbClr val="000000"/>
                </a:solidFill>
                <a:latin typeface="Arial Narrow"/>
              </a:rPr>
              <a:t>28.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A1BA853A-25D3-445E-9669-A1B534F2FD07}"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