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18848A0-9DA6-4A98-AFB7-DFA45AE7D5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9EEF6-0149-4476-838C-CC1BEE72CD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89EF02ED-C370-4485-B3F3-DA455BDA72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813531C5-9D4F-4039-92BA-1FBF69168F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ABB996AD-0E38-48DE-A445-EAC75E66CF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608461C3-AFD5-4255-B12E-AD652960BC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96BB12F9-30B3-4B22-9BEF-CF02A98EEF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C115C439-B000-460E-9FD4-6257BFAE85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16B8D697-F495-4E70-B103-640F077401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11284BC6-C102-4017-9376-624A6F647A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602AB988-03D7-48BC-9F32-E3084CFD0A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E1DE9C59-DE3A-443C-96E1-2EB39143AC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6352644E-ABD9-4885-9966-F6C6F486DE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5D7C45E3-DDF5-4CCC-8CDB-B875697AF8E3}"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FACBEC45-215D-4055-944C-9C29790E4F08}" type="datetime">
              <a:rPr b="0" lang="de-DE" sz="900" spc="-1" strike="noStrike">
                <a:solidFill>
                  <a:srgbClr val="000000"/>
                </a:solidFill>
                <a:latin typeface="Arial"/>
              </a:rPr>
              <a:t>28.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E3F98287-0850-4D65-8E7D-57DF724780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84441-EEB1-4C8B-960F-C1258EDC3B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48E9E3-E00A-4042-AE5C-29CD10901A57}"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C6C15E09-0BDC-4871-AADC-40DE10C647C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A94BA-5AF1-4A92-A6CD-0A9BAAC870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EA1B6-678D-4579-B84D-F8E193B4DF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3DD0E3A2-5619-4555-8A6F-071E4024C0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A137174D-C6F4-458C-8E96-513EC74DA2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83FA4FF-93F8-4F64-811C-4B8F7CC497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0208B-804A-477E-AB59-A1A08E31C9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AFC68FD0-B0FC-479F-8846-9717A2C3F5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